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3D6-6E53-4C98-A2A4-9FAFFB1D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727-7427-4249-8004-D300A94D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7C3-6871-49AF-979B-AB2E2671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567-036B-4EEC-AC98-A4F903C0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1DD-F1B7-4EB9-BAF6-3AEEEB0C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58E-2841-4FB9-844A-0D6F9925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92C-5D82-47FE-B50B-8EE21DF4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5EE-CC13-49E8-B767-E317C2E1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B4D-50FB-4376-8F01-60A1F9B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162-438D-46E2-80C9-E04CF47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FC3-5C42-41EB-A605-E750EBA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D4A-2961-4D54-B7F0-D29C4E6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D713-3760-46C2-81B6-D7163F5692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384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ÝPOČET POPLATKU ZA ODNĚTÍ LESNÍCH POZEMKŮ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- chybný prin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340000" y="46530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loha k zákonu č. 289/1995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ůměrná roční potenciální produkce les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ČR je dlouhodobě neměnná a dosahuje výše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6,3 m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ůměrná cena dřeva na </a:t>
            </a:r>
            <a:r>
              <a:rPr b="0" lang="cs-CZ" sz="2800" spc="-1" strike="noStrike" u="sng">
                <a:solidFill>
                  <a:srgbClr val="d60093"/>
                </a:solidFill>
                <a:uFillTx/>
                <a:latin typeface="Arial"/>
              </a:rPr>
              <a:t>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 stanoví z dosažených realizačních cen po odečtení nákladů na výrobu a přiblížení na odvozní místo. Tuto průměrnou cenu dřeva stanoví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lašuj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každoročně ministerstvo (§ 49 odst. 3 písm.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aktor ekologické váhy le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 odečte z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bul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Faktory jsou sestaveny podle kategorií a subkategorií l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6360" y="981000"/>
          <a:ext cx="7993080" cy="5791320"/>
        </p:xfrm>
        <a:graphic>
          <a:graphicData uri="http://schemas.openxmlformats.org/drawingml/2006/table">
            <a:tbl>
              <a:tblPr/>
              <a:tblGrid>
                <a:gridCol w="5716440"/>
                <a:gridCol w="2276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LE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hospodář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ochran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lesy na mimořádně nepříznivých stanovišt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vysokohorské lesy pod horní hranicí stromové veget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 lesy v klečovém lesním vegetačním stup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zvláštního ur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lesy v pásmu ochrany vodních zdrojů I. stupn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lesy v ochranném pásmu zdrojů léčivých v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 lesy národních parků – 1. zó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y národních parků – 2. zó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y národních parků – 3. zó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 lesy ve zvláště chráněných územ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) lesy v systému ekologické stability územ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) lesy lázeňsk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) lesy příměstské a se zvýšenou zdravotně rekreační funkc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) lesy výzkumných lesnických ústavů a lesnických šk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) lesy vyhlášené za genové základ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) lesy v uznaných oborách a samostatných bažantnic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97"/>
          <p:cNvSpPr/>
          <p:nvPr/>
        </p:nvSpPr>
        <p:spPr>
          <a:xfrm>
            <a:off x="755640" y="404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BULKA HODNOT FAKTORŮ EKOLOGICKÉ VÁHY LESA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76360" y="2519280"/>
          <a:ext cx="7993080" cy="1828800"/>
        </p:xfrm>
        <a:graphic>
          <a:graphicData uri="http://schemas.openxmlformats.org/drawingml/2006/table">
            <a:tbl>
              <a:tblPr/>
              <a:tblGrid>
                <a:gridCol w="5716440"/>
                <a:gridCol w="2276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y mimo vyhlášené 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lesy v pásmu ochrany vodních zdrojů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stupně – (vnitř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stupně – (vnějš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stupn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lesy v chráněné oblasti přirozené akumulace v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7854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éma: Společenská hodnota lesa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aneb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ýpočet poplatku za odnětí lesních pozemk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počet poplatku za odnětí (Kč.ha</a:t>
            </a:r>
            <a:r>
              <a:rPr b="1" lang="cs-CZ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(příloha k zákonu č. 289/1995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počet poplatku za dočasné odn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še ročního poplat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LP = PP .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.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počet poplatku za trvalé odn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e vypočte jako kapitálová hodnota ročního odvodu při použití úrokové míry 2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 .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.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LP =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ůměrná roční potenciální produkce lesů ČR (6,3 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- průměrná cena dřeva na odvozním místě v Kč za m</a:t>
            </a:r>
            <a:r>
              <a:rPr b="0" lang="cs-CZ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faktor ekologické váhy lesa (hodnota se odečte z tabul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1,4 = les hospodářský, 5,0  = PHO I, 1.zóna NP, lesy v Ú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1773360"/>
            <a:ext cx="84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měrná cena dřeva na OM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iz citace v příloze lesního zák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ůměrná cena dře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na odvozním místě (?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e stanoví z dosažených realizačních cen po odečtení nákladů na výrobu a přiblížení na odvozní mís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to průměrnou cenu dřeva stanoví a vyhlašuje každoročně ministerstvo [§ 49 odst. 3 písm. e] (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ěstník Ministerstva zemědělství Č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bulka vyhlášených průměrných cen dřeva na p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052640"/>
          <a:ext cx="8229600" cy="5486400"/>
        </p:xfrm>
        <a:graphic>
          <a:graphicData uri="http://schemas.openxmlformats.org/drawingml/2006/table">
            <a:tbl>
              <a:tblPr/>
              <a:tblGrid>
                <a:gridCol w="2827440"/>
                <a:gridCol w="3038400"/>
                <a:gridCol w="2363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tečnost ro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yhlášení pro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a v Kč/m</a:t>
                      </a:r>
                      <a:r>
                        <a:rPr b="1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cs-CZ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Line 89"/>
          <p:cNvSpPr/>
          <p:nvPr/>
        </p:nvSpPr>
        <p:spPr>
          <a:xfrm>
            <a:off x="2484360" y="3068640"/>
            <a:ext cx="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8101080" y="3068640"/>
            <a:ext cx="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Společenská hodnota lesa kles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za posledních 8 let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polovinu své hodnoty !!!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yhláška č. 77/1996 Sb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., o náležitostech žádosti o odnětí nebo omezení a podrobnostech o ochraně PUP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odnětí nebo omezení PUPFL (dále jen „zábor“) obsah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komplexní výpočet náhrad škod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a lesních porostech a předpoklad zvýšených provozní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výpočet poplatku za odně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platek za odnětí (§ 17 Les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ši poplatku stanoví podle přílohy k lesnímu zákonu OSSL v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platek se nepředepisuj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jde-li o odnětí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) stavby sloužící hospodaření v le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) výstavbu objektů a zařízení potřebných pro čištění odpadních v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) výstavbu objektů a zařízení potřebných pro jímání a výrobu pitné v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poplatku připadá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40 % obc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v jejímž katastrálním území došlo k odnětí a </a:t>
            </a: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60 % Státnímu fondu životního prostředí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Poplatek, který je příjmem obce, může být použit jen pro zlepšení životního prostředí v obci nebo pro zachování l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aplacením poplatku zůstává nedotčena povinnost žadatele nahradit vlastníku lesa vzniklou új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5280" y="1773360"/>
            <a:ext cx="84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platnost popla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latek z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rvalé odně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jednorázo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latek z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očasné odně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každoročně podle sazby stanovené pro první popla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byl-li poplatek zaplacen v plné výši nejpozději v den jeho splatnosti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žadatel je povinen zaplatit za každý den prodlení penále ve výši 0,1 % z nezaplacené čás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 z úroků nebo penále převede finanční orgán  příjemcům popla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5280" y="1773360"/>
            <a:ext cx="84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počet poplatku za odnětí (Kč.ha</a:t>
            </a:r>
            <a:r>
              <a:rPr b="1" lang="cs-CZ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(příloha k zákonu č. 289/1995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počet poplatku za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dočasné odn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še ročního poplat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LP = PP . CD .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počet poplatku za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trvalé odn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e vypočte jako kapitálová hodnota ročního odvodu při použití úrokové míry 2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P . CD .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LP = 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ůměrná roční potenciální produkce lesů ČR (6,3 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ůměrná cena </a:t>
            </a:r>
            <a:r>
              <a:rPr b="0" lang="cs-CZ" sz="2000" spc="-1" strike="noStrike">
                <a:solidFill>
                  <a:srgbClr val="d60093"/>
                </a:solidFill>
                <a:latin typeface="Arial"/>
              </a:rPr>
              <a:t>dře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 odvozním místě v Kč za 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aktor ekologické váhy les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hodnota se odečte z tabul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1,4 = les hospodářský, 5,0  = PHO I, 1.zóna NP, lesy v Ú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5280" y="1773360"/>
            <a:ext cx="84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ůměrná cena dřeva na 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ůměrná cena dřev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na odvozním místě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e stanoví z dosažených realizačních cen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 odečtení náklad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výrobu a přiblížení na odvozní mís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to průměrnou cenu dřeva stanoví a vyhlašuje každoročně ministerstvo (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ěstník Ministerstva zemědělství Č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bulka vyhlášených průměrných cen dřeva na p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052640"/>
          <a:ext cx="8229600" cy="5486400"/>
        </p:xfrm>
        <a:graphic>
          <a:graphicData uri="http://schemas.openxmlformats.org/drawingml/2006/table">
            <a:tbl>
              <a:tblPr/>
              <a:tblGrid>
                <a:gridCol w="2827440"/>
                <a:gridCol w="3038400"/>
                <a:gridCol w="2363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tečnost ro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yhlášení pro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a v Kč/m</a:t>
                      </a:r>
                      <a:r>
                        <a:rPr b="1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graf 1"/>
          <p:cNvGraphicFramePr/>
          <p:nvPr/>
        </p:nvGraphicFramePr>
        <p:xfrm>
          <a:off x="179280" y="692280"/>
          <a:ext cx="87854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graf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854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ěstník Ministerstva zemědělství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ůměrná cena surového dřev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účely výpočtu poplatku za odnětí lesních pozemků podle přílohy k zákonu č. 289/1996 Sb. (§ 49 odst. 3 písm. e) lesního zák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průměrnou cenu dřeva na lokalitě 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ez DPH, která  se stanoví z dosažených realizačních cen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tátní statistický výkaz Ceny Les 1-12, resp.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d roku 2007 výkaz Ceny Les 1-0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po odečtení průměrných nákladů na výrobu a přiblížení na odvozní místo (údaje ze Zelené zpráv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3:05:02Z</dcterms:created>
  <dc:creator>Jiří Matějíček</dc:creator>
  <dc:description/>
  <dc:language>en-US</dc:language>
  <cp:lastModifiedBy>Zbyněk</cp:lastModifiedBy>
  <dcterms:modified xsi:type="dcterms:W3CDTF">2016-01-13T19:14:35Z</dcterms:modified>
  <cp:revision>21</cp:revision>
  <dc:subject/>
  <dc:title>ŠKODY IMISEMI</dc:title>
</cp:coreProperties>
</file>