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E35C-0231-4564-8FE7-0D1D6D79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DB80-425A-4D61-8B28-6E238A2A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0786-34AF-46F7-AF2F-F9BE43F1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E4F7-4789-4C66-B563-02BAF083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0D8B-AF71-41DD-A0F2-CEEB79D1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478C-1C74-4685-9C60-22B857FE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EDB-1129-4256-AA01-42CE107D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87C7-B134-4109-B389-C8C3AB41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02C6-769B-4EAC-9817-BFD5492B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6EE8-879E-43D7-B8D5-DCC07149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8ABB-5566-4780-9722-8F57958D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D88B-F063-4EEB-8670-28DBDF87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0246-11D0-4647-A1F4-FA6D74792BB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91856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RÁVNÍ VÝCHODISKA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A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ÁKLADNÍ POJMY Z OBLASTI MAJETKOVÉ ÚJMY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(NÁHRADY ŠKOD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kutečná škoda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 toho tedy plyne, 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skutečnou škodo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ení jen škoda na věci, nýbrž i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škoda na majetkových právech a jiných hodnotách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např. došlo-li k jejich promlčení či ztrátě pro nečinnost toho , kdo měl povinnost starat se o jejich udrže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RÁVNÍ ASPEK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Arial"/>
              </a:rPr>
              <a:t>UŠLÝ ZIS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TO, CO POŠKOZENÉMU UŠL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 CO BY POŠKOZENÝ NABYL ZA NORMÁLNÍHO CHODU VĚCÍ NEBÝT ŠKODNÉ UDÁLOS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POŠKOZENÝ MŮŽE OČEKÁVAT PŘI PRAVIDELNÉM BĚHU VĚC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bere se v úvahu planá naděje, ale naděje odůvodněná, resp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ysoká pravděpodobn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že by zisku – nebýt škodné události – bylo dosaž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ř.: ušlý medový vý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ničený výrobní prostřed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šlý zisk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na poškozeném, aby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káza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že mu zisk ušel, 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 jaké výš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Důkaz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 existenci ušlého zisku musí být jednoznačný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nelze jej opřít o spekulativní úva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Odcizí-li někdo peníze muži jdoucímu do </a:t>
            </a:r>
            <a:r>
              <a:rPr b="0" i="1" lang="cs-CZ" sz="2800" spc="-1" strike="noStrike">
                <a:solidFill>
                  <a:srgbClr val="ff0000"/>
                </a:solidFill>
                <a:latin typeface="Arial"/>
              </a:rPr>
              <a:t>kasina,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nemůže se poškozený domáhat náhrady ušlého zisku s argumentem, že mít hotovost, vyhrál by v rulet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šlý zisk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60128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le závěrů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judikatur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musí být zjištěna pravděpodobná výše ušlého zisku blížící se podle běžného uvažování jistotě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Členění šk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du lze dělit také 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škodu osob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bolestné, náhrada za ztížení společenského uplatně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škodu majetkovo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např. škoda na vnesených nebo odložených věce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bo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mluvní (závazková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např. z kupní smlou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imosmluvní (deliktní, mimozávazková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porušení právní povinnosti vyplývající přímo z právních předpisů - zákon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Škoda musí vzniknou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nestačí pouhá vědomost o tom, že škoda v budoucnu vznik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hé domáhání se náhrady škody ještě neznamená, že škoda vznik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ázka náhrady škody je 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otázkou důkazní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Hledisko časové souvislosti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zi porušením právní povinnosti škůdce a skutkovou událostí není  samo o sobě rozhodující, ale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ěcná souvislost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 příčiny a důsledku je rozhodujíc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ouhý výpočet není důkaz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rincip výpočtu ško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princip diference 2 stav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žadavek na průhlednost a proveditel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strukce jednotlivých druhů šk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vidla =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objektivizace výpoč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škodnění, náhrady škod a újmy je třeba použív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umulativně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součet jednotlivých polož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elektivně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o ocenění jdou jen příslušné položk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lternativně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je více kalkulačních možností, zvolí se ale jen jed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áhrada při poškození vě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§ 29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 určení výše škody na věci se vychází z její </a:t>
            </a:r>
            <a:r>
              <a:rPr b="0" lang="cs-CZ" sz="3200" spc="-1" strike="noStrike" u="sng">
                <a:solidFill>
                  <a:srgbClr val="ff0066"/>
                </a:solidFill>
                <a:uFillTx/>
                <a:latin typeface="Arial"/>
              </a:rPr>
              <a:t>obvyklé ceny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 v době poškoz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zohlední se, co poškozený musí k obnovení nebo nahrazení funkce věci účelně vynalož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škodil-li škůdce věc ze svévole nebo škodolibosti, nahradí poškozenému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cenu zvláštní obli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Náhrada majetkové új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4000" y="119664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ev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§ 2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yžadují-li to okolnosti případu nebo zvyklosti soukromého života, je </a:t>
            </a:r>
            <a:r>
              <a:rPr b="0" lang="cs-CZ" sz="3000" spc="-1" strike="noStrike" u="sng">
                <a:solidFill>
                  <a:srgbClr val="ff0066"/>
                </a:solidFill>
                <a:uFillTx/>
                <a:latin typeface="Arial"/>
              </a:rPr>
              <a:t>každý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povinen počínat si při svém konání tak, aby nedošlo k nedůvodné újmě 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vobodě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životě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aví nebo 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lastnictví jinéh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určení výše škody na věci se vychází z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ceny v době poškoz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nikoliv v době, kdy je nárok uplatněn nebo kdy je náhrada poskytnu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ístně obvyklé náklady a ceny dřev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význam podnikového účetnictví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kalkulace odškodnění a náhrady škod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alé podniky či malé ploch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= jen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pecifické kalkul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 zahraničí mají přednost oproti obsahu účetnic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§ 29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Nelze-li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ýši náhrady škod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řesně urči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určí ji podle spravedlivého uvážení jednotlivých okolností případu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s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sou-li stanoveny způsoby jak škodu vyčíslit, určí se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odhad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a náhradě škody by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neměl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škozený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rofito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jetkový stav poškozeného se v důsledku poskytnuté náhrady škody nemá zlepšit ani zhoršit, ale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dostat se na stejnou úroveň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na které by byl, pokud by ke vzniku škody nedoš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Kombinace druhů šk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MLČENÍ 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435880" cy="540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romlč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namená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zánik vymahatelnosti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určitého oprávněn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romlčením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rávo nezanik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ale nebylo-li v době zákonem stanovené vykonáno, tj. uplatněno u soudu, nemůže být věřiteli přiznáno, jestliže se dlužník dovolává, že je promlče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mlčení přichází v úvahu pouze v případech, kdy nedošlo k zániku práva (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reklu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ROMLČENÍ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mlčují se zásadně všechna majetková práva 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s výjimkou práva vlastnickéh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epromlčují s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rovně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ráva z vkladů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vkladních knížkách nebo na jiných formách vkladů a běžných účtech, pokud vkladový vztah trvá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osobní práv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např. právo na ochranu osobnosti obč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mlčen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mlčení je vázáno na uplynutí stanovené doby, resp. lhů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významnější změny v NOZ (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od 1.1.2014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jednocení obecné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subjektivní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mlčecí doby na 3 roky,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objektivní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a 10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 platí i pro právo na náhradu škody a bezdůvodného oboha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mlčen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Subjektivní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 promlčecí lhůta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u práva na náhradu ško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§ 620 N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kolnosti rozhodné pro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čátek běhu promlčecí lhůt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 práva na náhradu škody zahrnují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ědomost o škodě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osobě povinné k její náhrad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MLČ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4358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jem  „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Arial"/>
              </a:rPr>
              <a:t>vědomost o škodě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“ vyžadu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domost o druhu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sahu škod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to tak určitou, aby poškozený mohl svůj nárok uplatnit u soud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en škodné udál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en vzniku šk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škozený se dozví o výši šk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škozený se dozví o tom, jehož činností byla způsobena šk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ávo se promlčí, jestliže nebylo vykonáno v době v tomto zákoně stanove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mlčen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Objektivní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 promlčecí lhůta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u práva na náhradu ško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§ 636 N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ávo na náhradu škody nebo jiné újmy se promlčí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nejpozději za deset let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e dne, kdy škoda nebo újma vznik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yla-li škoda nebo újma způsobena úmyslně, promlčí se právo na její náhradu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nejpozději za patnáct let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e dne, kdy škoda nebo újma vznik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mlčen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žnost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smluvní modifik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§ 630 N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any si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mohou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ujednat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kratší nebo delší promlčecí lhůtu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ítanou ode dne, kdy právo mohlo být uplatněno poprvé, než jakou stanoví zákon,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nejméně však v trvání jednoho roku a nejdéle v trvání patnácti l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-li kratší nebo delší lhůta ujednána v neprospěch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labší stran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nepřihlíží se k ujednání. Nepřihlíží se ani k ujednání kratší promlčecí lhůty, jde-li o právo na plnění vyplývající z újmy na svobodě, životě nebo zdraví nebo o právo vzniklé z úmyslného porušení povin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§ 415 Občanského zákoníku  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(tzv. generální prevence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Každý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vinen počínat si tak, aby nedocházelo ke škodá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a zdraví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a majetk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a přírodě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životním prostřed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znik škod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je nezbytným předpokladem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zniku odpovědnosti za škod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EKLUZE 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reklu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jedním ze způsobů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niku práv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k němuž v tomto případě dochází, nebylo-li právo uplatněno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 zákonem stanovené lhůtě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uto lhůtu nazýváme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lhůtou prekluzivní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 neboli propadn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ekluz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920" y="981000"/>
            <a:ext cx="86421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významnější změ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§ 654 N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stanovení tohoto zákona o běhu promlčecí lhůty platí obdobně i pro prekluzivní lhů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REKLUZE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ekluzivní lhůty jsou zpravidla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kratší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ž lhůty promlče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Zákon zpravidla upozorňuj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 to, že nebudou-li </a:t>
            </a: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práva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prekluzivní  lhůtě náležitě uplatněna, </a:t>
            </a: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zanikn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klady prekluzivních lhů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hrada škod způsobených zvěří - do 20 dnů po 30.6. 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(§ 55 zákona č. 449/2001 Sb., o myslivost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rázová náhrada za majetkovou újmu vzniklou nebo omezení užívání nemovitosti  - do 6 měsíců ode dne, kdy se o tom vlastník dozvěděl (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energetický zákon č. 458/200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nanční náhrady za ztížení zemědělského nebo lesního hospodaření - do 3 měsíců od skončení kalendářního roku, v němž újma vznikla nebo trvala (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§ 58 odst. 3 zákona č. 218/2004 Sb., kterým se mění zákon č. 114/1992 Sb., o ochraně přírody a kraji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da na lesních porostech - do 15 dnů ode dne, kdy se poškozený o škodě dozvěděl, nejpozději však do 6 měsíců ode dne, kdy ke škodě došlo (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ákon č. 115/2000 Sb., o poskytování náhrad škod způsobených vybranými zvláště chráněnými živočich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Rozsah škody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způsobené majetkovým trestným čin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ální znaky příslušné skutkové podstaty majetkového trestného činu podle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kategorií škody z hlediska trestního práva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§ 89 odst. 11 trest. zákon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Škoda nikoli nepatrná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nejméně 1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ikoli malá škod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nejméně 5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ětší škod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nejméně 1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Značná škod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nejméně 1 0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(viz např. LesZ § 55 odst.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Škoda velkého rozsah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nejméně 10 0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oznámk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d vstupu v účinnost zákona č. 265/2001 Sb.  (od 1.1.2002) již není výše škody v TZ navázána na minimální mz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Těchto částek se užije obdobn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ro učení výše prospěchu, nákladů k odstranění následků poškození životního prostředí a hodnoty věci nebo jiné majetkové hodn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ÚJ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jem  „</a:t>
            </a: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újma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“ v právním řádu ani v judikatuře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definován není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efinovány jsou pouze některé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zvláštní typy újmy, zejména </a:t>
            </a:r>
            <a:r>
              <a:rPr b="0" lang="cs-CZ" sz="2200" spc="-1" strike="noStrike" u="sng">
                <a:solidFill>
                  <a:srgbClr val="0070c0"/>
                </a:solidFill>
                <a:uFillTx/>
                <a:latin typeface="Arial"/>
              </a:rPr>
              <a:t>ekologická újma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(pozn.: pro náhradu ekologické újmy platí zvláštní pravidla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inak používá náš právní řád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pojem „újma“ bez jakéhokoliv upřesnění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pouze (v některých případech) rozlišuje mezi újmou majetkovou (např. § 87 zákona č. 254/2001 Sb., vodního zákona) a nemajetkovou (např. občanský zákoník v § 13, odst. 2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Majetková újma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bývá hrazena v penězí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emajetková újm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ak v penězích být hrazena může, ovšem nemusí (náhrada má zpravidla formu přiměřeného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zadostiučinění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které může být realizováno jak platbou, tak omluvou, zveřejněním rozsudku apod.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zájemný vztah újmy a šk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jem „újma“ je nadřazen pojmu  „škoda“,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eboť jde o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jem širší a obecnějš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zahrnující jak újmu nemajetkovou (např. újmu na cti určité osoby), tak újmu majetkovo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Charakter nemajetkové újmy má i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ekologická újma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le zákona č. 17/1992 Sb.,o životním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(§ 10 - „ztráta nebo oslabení přirozených funkcí ekosystémů, vznikající poškozením jejich složek nebo narušením vnitřních vazeb a procesů v důsledku lidské činnosti.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kon č. 167/2008 S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e dne 22. dubna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 předcházení a nápravě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ekologické újm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 o změně některých zákon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rlament se usnesl na tomto zákoně České republik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EKOLOGICKÁ (ENVIRONMENTÁLNÍ) ÚJ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sp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škoda na životním prostřed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namená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újmu na biodiverzit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újmu na vodních zdrojí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újmu na půd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ram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1) Směrnice Evropského parlamentu a Rady 2004/35/ES o odpovědnosti za životní prostředí v souvislosti s prevencí a nápravou škod na životním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EKOLOGICKÁ (ENVIRONMENTÁLNÍ) ÚJ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Ekologickou újmu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nutno považovat za vyloženě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eřejnoprávní institu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tím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škoda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tří do sféry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soukromoprávní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působ a rozsah náhr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§ 29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Škoda se nahrazuje uvedením do předešlého stavu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ení-li to možné, anebo žádá-li to poškozený, hradí se škoda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 penězí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Nemajetkové újm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e odčiní přiměřeným zadostiučiněním. Zadostiučinění musí být poskytnuto v penězích, nezajistí-li jeho jiný způsob skutečné a dostatečně účinné odčinění způsobené új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zájemný vztah újmy a šk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ff0000"/>
                </a:solidFill>
                <a:uFillTx/>
                <a:latin typeface="Arial"/>
              </a:rPr>
              <a:t>Majetková újma </a:t>
            </a: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je v zásadě synonymem pro pojem </a:t>
            </a:r>
            <a:r>
              <a:rPr b="1" lang="de-DE" sz="3200" spc="-1" strike="noStrike" u="sng">
                <a:solidFill>
                  <a:srgbClr val="ff0000"/>
                </a:solidFill>
                <a:uFillTx/>
                <a:latin typeface="Arial"/>
              </a:rPr>
              <a:t>škoda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á-li újma podobu újmy majetkové, jde o škodu. Ta se pak projevuje buď jako </a:t>
            </a: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škoda skutečná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to je to „zhoršení stávajícího stavu věcí“) nebo jako </a:t>
            </a: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ušlý zisk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to pokrývá i ono „zlepšení stávajícího stavu věcí, ovšem v menším rozsahu, než by bylo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žné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rozumně očekávat  v případě, že by se určitá událost nestala“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obecné vymezení pojmu „</a:t>
            </a:r>
            <a:r>
              <a:rPr b="1" lang="cs-CZ" sz="2400" spc="-1" strike="noStrike" u="sng">
                <a:solidFill>
                  <a:srgbClr val="ff0000"/>
                </a:solidFill>
                <a:uFillTx/>
                <a:latin typeface="Arial"/>
              </a:rPr>
              <a:t>škod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“ bývá v tuzemské právní praxi nejčastěji (a dlouhodobě) využíváno a citováno stanovisko publikované ve „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bírce soudních rozhodnutí a stanovisek“ pod č. 55/197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le něj se </a:t>
            </a:r>
            <a:r>
              <a:rPr b="1" lang="cs-CZ" sz="2400" spc="-1" strike="noStrike" u="sng">
                <a:solidFill>
                  <a:srgbClr val="ff0000"/>
                </a:solidFill>
                <a:uFillTx/>
                <a:latin typeface="Arial"/>
              </a:rPr>
              <a:t>škoda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jako kategorie občanského práva) chápe jako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újma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která nastala nebo se projevuje </a:t>
            </a:r>
            <a:r>
              <a:rPr b="1" lang="cs-CZ" sz="2400" spc="-1" strike="noStrike" u="sng">
                <a:solidFill>
                  <a:srgbClr val="ff0000"/>
                </a:solidFill>
                <a:uFillTx/>
                <a:latin typeface="Arial"/>
              </a:rPr>
              <a:t>v majetkové sféře poškozeného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je objektivně vyjádřitelná všeobecným ekvivalentem, tj. penězi a je tedy,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okud nedochází k naturální restituc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uvedení do původního stavu), napravitelná poskytnutím majetkového plnění, především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oskytnutím peněz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ející legisl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hláška č. 55/1999 S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, o způsobu výpočtu výše újmy nebo škody způsobené na lesích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účinnost od 30.3.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on č. 151/2000 Sb.,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 telekomunikací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o změně dalších zákonů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účinnost od 1.7.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on č. 458/2000 Sb., o podmínkách podnikání a o výkonu státní správy v energetických odvětvích a o změně některých zákonů (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nergetický záko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Újma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 aprobovaného chování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orgánů státní s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iz lesní zákon nebo nařízená ome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ĚKUJI ZA POZORNOST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268280"/>
            <a:ext cx="8856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§ 29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radí se 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skutečná škoda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, co poškozenému ušlo (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ušlý zis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leží-li skutečná škoda ve vzniku dluhu, má poškozený právo, aby ho škůdce dluhu zprostil nebo mu poskytl náhrad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RÁVNÍ ASPEK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0000"/>
                </a:solidFill>
                <a:uFillTx/>
                <a:latin typeface="Arial"/>
              </a:rPr>
              <a:t>ŠKODA</a:t>
            </a: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cs-CZ" sz="2400" spc="-1" strike="noStrike" u="sng">
                <a:solidFill>
                  <a:srgbClr val="ff0000"/>
                </a:solidFill>
                <a:uFillTx/>
                <a:latin typeface="Arial"/>
              </a:rPr>
              <a:t>majetková újma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yjádřitelná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becným ekvivalentem, tj.  peněz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nastala v majetkové sféře poškozeného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Nemajetkové új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ásadně povahu škody nemaj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ozn.: Některé nemajetkové újmy však tvoří součást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náhrady škody na základě výslovného ustanovení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zákona (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bolestné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a ztížení společenského uplatnění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Škoda imateriální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peněžitě se vyrovnávají útrapy psychick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RÁVNÍ ASPEK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 občanském právu se hradí: (§ 29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SKUTEČNÁ ŠKODA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zmenšení majetk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UŠLÝ ZIS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to, co by poškozený nabyl za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rmálního chodu věcí nebýt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kodné událos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RÁVNÍ ASPEK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SKUTEČNÁ ŠKODA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ZMENŠENÍ MAJETKU POŠKOZENÉH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ičení, ztráta, poškození nebo znehodnocení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klady vynaložené poškozenou stranou v důsledku  škodné udá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zv. marně vynaložené nákl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tráta majetkových prá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kutečná škoda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Kazuistika odrážející se v judikatuř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patřu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kutečnou škod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edle běžných případů zničení, ztráty, poškození či zmenšení majetku např.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 ztrátě podzemní vody či ve zhoršení jakosti vody (R 2/87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nížení hodnoty vinice způsobené poprašováním sousedních pozemků nevhodným hnojivem (S IV, str. 628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 ztrátě zákazníků (Váž. 10 153 a 11 033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08:59:55Z</dcterms:created>
  <dc:creator>Matejicek Jiri</dc:creator>
  <dc:description/>
  <dc:language>en-US</dc:language>
  <cp:lastModifiedBy>MACEK Leoš Ing.</cp:lastModifiedBy>
  <dcterms:modified xsi:type="dcterms:W3CDTF">2023-11-09T08:30:44Z</dcterms:modified>
  <cp:revision>455</cp:revision>
  <dc:subject/>
  <dc:title>ÚVOD DO OCEŇOVÁNÍ LESA</dc:title>
</cp:coreProperties>
</file>