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31.wmf" ContentType="image/x-wmf"/>
  <Override PartName="/ppt/media/image1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3296-3447-4CC2-A6F1-12253F46CC9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385E-296A-4F67-BBE9-B18EC8ACEFD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567-DD41-47F7-9C09-11C2D60E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6AB-CBA1-473B-9856-099C3DAC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3AE-0289-4088-81D1-F3C4ADEF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CE2-9A26-4D86-B01C-0C33FD84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0CA-A6E6-4EDB-8873-6DDB5F15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426-417C-41D5-8DC5-2AFCDA87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68E-91CB-4F52-B080-B57042F6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336-6F6F-4347-A788-5D914755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0AE-821D-4A1B-9769-42D4760F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66E-51C5-41F6-8639-1A46C942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22A-9EF1-4516-A94A-A3CAC827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A90-C1CF-4886-A055-37D3576C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CCCD-1A9E-457E-90CD-1F5304B03A2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7"/>
          <p:cNvSpPr/>
          <p:nvPr/>
        </p:nvSpPr>
        <p:spPr>
          <a:xfrm>
            <a:off x="1447920" y="49528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28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32"/>
          <p:cNvSpPr/>
          <p:nvPr/>
        </p:nvSpPr>
        <p:spPr>
          <a:xfrm>
            <a:off x="1332000" y="1557360"/>
            <a:ext cx="665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ceňování lesů pomocí SW programu Oceněn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33"/>
          <p:cNvSpPr/>
          <p:nvPr/>
        </p:nvSpPr>
        <p:spPr>
          <a:xfrm>
            <a:off x="900000" y="595008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g.Jiří Kašpar, Foresta S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611280" y="1989000"/>
            <a:ext cx="77724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ýnosová cena lesního porostu se zjistí zjednodušeným postupem. Cena lesního porostu je součtem dílčích cen jednotlivých skupin dřevin v poměru jejich plošného zastoupení v oceňovaném lesním porostu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ena jednotlivých skupin dřevin se zjistí podle vzorce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C</a:t>
            </a:r>
            <a:r>
              <a:rPr b="1" lang="cs-CZ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</a:t>
            </a:r>
            <a:r>
              <a:rPr b="1" lang="cs-CZ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C</a:t>
            </a:r>
            <a:r>
              <a:rPr b="1" lang="cs-CZ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B</a:t>
            </a:r>
            <a:r>
              <a:rPr b="1" lang="cs-CZ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C</a:t>
            </a:r>
            <a:r>
              <a:rPr b="1" lang="cs-CZ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určená cena skupiny dřevin v Kč/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cs-CZ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ýměra zastoupené skupiny dřevin v 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cs-CZ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ena v Kč/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 příslušnou skupinu dřevin, věk, bonitní stupeň a zakmenění 1,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tabulek č.1 až 6 v příloze č.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= zakmenění porostu ve věku ke dni ocenění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39640" y="1413000"/>
            <a:ext cx="806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ceňování lesního porostu zjednodušeným způsobem - §4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117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053440" y="403920"/>
            <a:ext cx="689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cenění - výpočet ceny lesních porost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8280360" cy="5661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3"/>
          <a:stretch/>
        </p:blipFill>
        <p:spPr>
          <a:xfrm>
            <a:off x="1619280" y="1413000"/>
            <a:ext cx="6105600" cy="50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053440" y="403920"/>
            <a:ext cx="689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cenění - výpočet ceny lesních porost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39640" y="1268280"/>
            <a:ext cx="8064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cenění zemědělských pozemků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611280" y="1773360"/>
            <a:ext cx="8064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kladní cena za 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zemědělského pozemku se zjist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le § 6 a přílohy č. 4 vyhlášk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odle sazeb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itovaných půdně ekologických jednotek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(BPEJ), případně podle průměrné ceny zem.pozemku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elková cena je pak tvořena vynásobením této základní ceny plochou příslušného zemědělského pozemku v 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a sumárním procentem uplatněných srážek a přirážek dle přílohy č.5 vyhlášky podle vzorce 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poz = BPEJ *Plpz* 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poz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= cena zemědělského pozemku v Kč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PEJ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=  cena 1 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zemědělského pozemku podle čísla BPEJ z přílohy příslušné vyhlášky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lpz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=  plocha zemědělského pozemku (v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= součet procentických  přirážek a srážek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Pozn.: Základní cena zemědělského pozemku nesmí být  nižší než 1,00 Kč za m</a:t>
            </a:r>
            <a:r>
              <a:rPr b="0" i="1" lang="cs-CZ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259840" cy="5480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5962680" cy="4524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4"/>
          <a:stretch/>
        </p:blipFill>
        <p:spPr>
          <a:xfrm>
            <a:off x="1332000" y="314280"/>
            <a:ext cx="6100560" cy="654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611280" y="1916280"/>
            <a:ext cx="8064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Jiné pozemky podle § 9, odstavce 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ospodářsky nebo komerčně nevyužitelný pozemek je oceňován podle § 9, odstavce 5 jako součin jeho výměry v 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 průměrné základní ceny zemědělských pozemků v daném katastrálním území a koeficientu 0,25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kladní cena je pak dále upravena přirážkou podle příslušné položky č.1 přílohy č.5. Na základě věcného zdůvodnění lze pak cenu dále snížit až o 50%. Výsledná cena musí být nejméně 1,00 Kč/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053440" y="403920"/>
            <a:ext cx="689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cenění - výpočet ceny lesních porost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539640" y="1341360"/>
            <a:ext cx="806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cenění jiných pozemků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4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604000" cy="4919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3"/>
          <a:stretch/>
        </p:blipFill>
        <p:spPr>
          <a:xfrm>
            <a:off x="1908000" y="1557360"/>
            <a:ext cx="5962680" cy="45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140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053440" y="403920"/>
            <a:ext cx="689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cenění - výpočet ceny lesních porost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53964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ditace a tisk výpočtu formou znaleckého posudk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755640" y="227664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lavní možnosti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plnění údajů o zadavateli posudku, datumu ocenění, textových poznámek apod. pomocí textového průvod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isk výpočtu do dvou výstupních formátů (RTF , nebo tabulkové uspořádání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isk vlastního posudku v obecném formátu RTF (možnost zobrazení v různých editorech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 nastavení cesty automatická spolupráce s vybraným textovým editorem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114960" cy="4629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"/>
          <p:cNvPicPr/>
          <p:nvPr/>
        </p:nvPicPr>
        <p:blipFill>
          <a:blip r:embed="rId3"/>
          <a:stretch/>
        </p:blipFill>
        <p:spPr>
          <a:xfrm>
            <a:off x="179280" y="-243000"/>
            <a:ext cx="5315040" cy="7286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"/>
          <p:cNvPicPr/>
          <p:nvPr/>
        </p:nvPicPr>
        <p:blipFill>
          <a:blip r:embed="rId4"/>
          <a:stretch/>
        </p:blipFill>
        <p:spPr>
          <a:xfrm>
            <a:off x="1042920" y="-243000"/>
            <a:ext cx="5305320" cy="7313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1924200" y="-217440"/>
            <a:ext cx="5295600" cy="7294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284640" y="1440"/>
            <a:ext cx="585936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151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053440" y="403920"/>
            <a:ext cx="689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cenění - výpočet ceny lesních porost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539640" y="141300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ouzení kvality hospodaření na lese porovnáním ceny majetku v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ednotlivých lete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684360" y="2276640"/>
            <a:ext cx="77724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stupní parametr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měra lesního majetku:  215,14 h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i výpočtu zohledněna LHE (těžby, zalesnění) v pěti po sobě následujících letech platnosti LH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gramem Ocenění automaticky aktualizován věk porostů, plochy těžeb a nových zalesnění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755640" y="4581360"/>
            <a:ext cx="77724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ky porovnání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ná hodnota majetku měla po počátečním propadu mírně stoupající trend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díl mezi maximální a minimální hodnotou byl do 7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4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4886280" cy="2495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"/>
          <p:cNvPicPr/>
          <p:nvPr/>
        </p:nvPicPr>
        <p:blipFill>
          <a:blip r:embed="rId3"/>
          <a:stretch/>
        </p:blipFill>
        <p:spPr>
          <a:xfrm>
            <a:off x="684360" y="1844640"/>
            <a:ext cx="7354800" cy="45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3520" y="26668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kruh uživatelů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dní znal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 v oboru ekonomika lesního hospodářstv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astníci les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rávci obecních a soukromých lesních majet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borní lesní hospodář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09480" y="1523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gram Oceněn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162" name="Line 6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2053440" y="403920"/>
            <a:ext cx="689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cenění - výpočet ceny lesních porost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ontaktní úd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905120" y="1600200"/>
            <a:ext cx="6476760" cy="4952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762120" y="1752480"/>
            <a:ext cx="4114800" cy="3048120"/>
          </a:xfrm>
          <a:prstGeom prst="rect">
            <a:avLst/>
          </a:prstGeom>
          <a:solidFill>
            <a:srgbClr val="5ab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066680" y="2057400"/>
            <a:ext cx="4038840" cy="3048120"/>
          </a:xfrm>
          <a:prstGeom prst="rect">
            <a:avLst/>
          </a:prstGeom>
          <a:solidFill>
            <a:srgbClr val="5ab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838080" y="13716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8" descr="Picture 44"/>
          <p:cNvPicPr/>
          <p:nvPr/>
        </p:nvPicPr>
        <p:blipFill>
          <a:blip r:embed="rId2"/>
          <a:stretch/>
        </p:blipFill>
        <p:spPr>
          <a:xfrm>
            <a:off x="914400" y="1905120"/>
            <a:ext cx="4064040" cy="3047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71" name="Text Box 9"/>
          <p:cNvSpPr/>
          <p:nvPr/>
        </p:nvSpPr>
        <p:spPr>
          <a:xfrm>
            <a:off x="5562720" y="1676520"/>
            <a:ext cx="281916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Sídlo firmy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Vsetín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(viz.foto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orní náměstí 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755 01  Vsetí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el: 571 487 1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fax: 571 487 19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e-mail: inf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@foresta.c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foresta.c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514600" y="5486400"/>
            <a:ext cx="4724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Ing. Jiří Kašpar, tel: 603 417 25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kaspar@foresta.c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Object 11"/>
          <p:cNvGraphicFramePr/>
          <p:nvPr/>
        </p:nvGraphicFramePr>
        <p:xfrm>
          <a:off x="8159760" y="98280"/>
          <a:ext cx="874800" cy="739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59760" y="98280"/>
                    <a:ext cx="8748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54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050560" y="403920"/>
            <a:ext cx="361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cenění lesa – úvo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39640" y="1484280"/>
            <a:ext cx="82803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čely ocenění lesa 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úřední“ poplatk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např. daňové účely, dědické řízení, některé soudní poplatky apod.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podklad pro sjednání kupní ceny majetk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směny, vypořádání majetku, vypořádání podílového spoluvlastnictví       reálným rozdělení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podklad pro stanovení výše nájemného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posouzení kvality hospodaření na lese porovnáním ceny majetku v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jednotlivých letech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žnosti ocenění lesa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ocenění dle zákona o oceňování majetku (151/1997 Sb.) a příslušných oceňovacích vyhláše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odhad tržní hodnoty lesa podle různých metodik (porovnávací, výnosová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053440" y="403920"/>
            <a:ext cx="689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cenění - výpočet ceny lesních porost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39640" y="141300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ogramový systém pro výpočet ceny lesních porostů a lesních a zemědělských a jiných pozemků na základě zákona o oceňování majetk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755640" y="26370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lavní funkc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žení posudku a stylu následné práce se vstupními daty (ocenění parcel nebo jednotek lesa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žnost volby znění vyhlášek MF pro výpočet ceny majetk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žnost načtení vstupních dat LHP z  různých formátů ISLH a z databáze LHKE a LČR (ProPl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omatické vyhledání hodnot pro výpočet a přiřazení srážek a přirážek k příslušné dřevin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ace a tisk úplného znaleckého posudku včetně znalecké doložky ve dvou výstupních formátech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nost uložení výpočtu ocenění do Excelu pro další opera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65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053440" y="403920"/>
            <a:ext cx="689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cenění - výpočet ceny lesních porost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39640" y="1628640"/>
            <a:ext cx="806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žení posudku a stylu následné práce se vstupními da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755640" y="26370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yl práce a typ zpracování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le lesnického rozdělení  - tj. ocenění jednotlivých jednotek lesa nebo celého celk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le parcel – ocenění jednotlivých parcel (vhodné pro dědická řízení apod.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běr oceňovacího předpisu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utomaticky nastaven podle data k němuž se ocenění provádí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žnost změny vyhlášky pro porovnání výsledné cen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4438800" cy="450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72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053440" y="403920"/>
            <a:ext cx="689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cenění - výpočet ceny lesních porost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39640" y="1628640"/>
            <a:ext cx="806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žení karty majetku a přehledu oceňovaných parc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55640" y="22050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uční editace údajů o vlastníkovi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lastník –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lovní popis, adres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tastrální území –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utomatické vyhledání podle čísla KÚ nebo názv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st vlastnictví –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íselné označení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lastnický podíl –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íselné vyjádření podílu vlastníka na majetk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ditace parcel k ocenění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ční editací položek parcel –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íslo parcely, výměra, druh pozemk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ortem seznamu parcel z Excelu -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íslo parcely, podlomení, výměra, druh pozemk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7524720" cy="5448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3105000" cy="390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4"/>
          <a:stretch/>
        </p:blipFill>
        <p:spPr>
          <a:xfrm>
            <a:off x="3059280" y="1197000"/>
            <a:ext cx="586728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81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053440" y="403920"/>
            <a:ext cx="689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cenění - výpočet ceny lesních porost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39640" y="141300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utomatický import vstupních dat LHP pro výpočet ceny le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755640" y="2133720"/>
            <a:ext cx="7772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šechny známé formáty LHP (XML, ISHUL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ort dat z databáze programu LHKE-OLH (možnost zohlednění aktuálního stavu o LH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ort dat z formátu programu LES (LČR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port dat z formátu MS Excel (xl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žnost uložení načtených dat do databáze a jejich prohlížení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11280" y="429264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utomatické vyhledání hodnot pro ocenění k příslušné dřevin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755640" y="5084640"/>
            <a:ext cx="77724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bulková cena mýtní výtěže skupiny dřevin ve věku obmýtí (Au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klady na zajištěnou kulturu ( c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ěkový hodnotový faktor ( fa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1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6715080" cy="4105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3"/>
          <a:stretch/>
        </p:blipFill>
        <p:spPr>
          <a:xfrm>
            <a:off x="1042920" y="1700280"/>
            <a:ext cx="720108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91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053440" y="403920"/>
            <a:ext cx="689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cenění - výpočet ceny lesních porost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39640" y="134136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počet ceny lesního majetku dle zákona o oceňován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611280" y="1773360"/>
            <a:ext cx="8208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ena lesního porostu – lesní porost na les.pozemku (§ 4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le aktuálně platné oceňovací vyhlášky (č. 441/2013 Sb. v akt. znění) se základní cena za m2 jednotlivých skupin dřevin určí podle vzor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a = ((Au - c)*f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+ c)*B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základn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cena skupiny dřevin ve věku ke dni ocenění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u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=  cena mýtní výtěže skupiny dřevin věku obmýtí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pro příslušný bonitní stupe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=  náklady na zajištěnou kultur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=  věkový hodnotový faktor pro obmýtí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 věk ke dni ocenění a příslušný bonitní stupe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= zakmenění ve věku ke dni ocenění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=  obmýtí - je převzato z LHP nebo LHO. Pokud je v nich uvedeno obmýtí nižší (resp. vyšší) než nejnižší (resp. nejvyšší) obmýtí pro danou skupinu dřevin stanovené v příloze č. 30, použije se pro ocenění toto nejnižší (resp. nejvyšší) obmýtí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97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053440" y="403920"/>
            <a:ext cx="689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cenění - výpočet ceny lesních porost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539640" y="134136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počet ceny lesního majetku dle zákona o oceňován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11280" y="1773360"/>
            <a:ext cx="77724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ena lesního porostu -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úprava základní ceny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kladní cena skupiny dřevin je pak dále upravena srážkami či přirážkami (max. snížení o 75% základní ceny, resp. 85% v případě plošně odumírajících porostů) podle tabulek č.1 až 3 přílohy č.33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e-li věk dřevin oceňované skupiny lesních dřevin nižší než její obmýtí, sníží se základní cena koeficientem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v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 který se vypočte podle vzorce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v = 1-(u-a) x 0,00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d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=  obmýtí skupiny dřevi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=  věk skupiny dřevi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Times New Roman"/>
              </a:rPr>
              <a:t>Pozn.</a:t>
            </a:r>
            <a:r>
              <a:rPr b="1" i="1" lang="cs-CZ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</a:rPr>
              <a:t>Je-li skutečný věk dřeviny vyšší než obmýtí stanovené v lesním hospodářském plánu a skutečný věk dřeviny se přitom nachází v rozpětí cen mýtní výtěže Au přiřazené skupinám dřevin v příloze č.30, pak cena mýtní výtěže Au pro danou dřevinu se rovná ceně mýtní výtěže ve věku </a:t>
            </a:r>
            <a:r>
              <a:rPr b="0" i="1" lang="cs-CZ" sz="1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</a:rPr>
              <a:t> dřeviny příslušného bonitního stupně zjištěné </a:t>
            </a:r>
            <a:r>
              <a:rPr b="1" i="1" lang="cs-CZ" sz="1400" spc="-1" strike="noStrike">
                <a:solidFill>
                  <a:srgbClr val="000000"/>
                </a:solidFill>
                <a:latin typeface="Times New Roman"/>
              </a:rPr>
              <a:t>interpolací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</a:rPr>
              <a:t> z cen mýtní výtěže uvedených v příloze č.30.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1981080" y="1066680"/>
            <a:ext cx="66294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logoForesta4"/>
          <p:cNvPicPr/>
          <p:nvPr/>
        </p:nvPicPr>
        <p:blipFill>
          <a:blip r:embed="rId1"/>
          <a:stretch/>
        </p:blipFill>
        <p:spPr>
          <a:xfrm>
            <a:off x="838080" y="328680"/>
            <a:ext cx="1219320" cy="104292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228600" y="1066680"/>
            <a:ext cx="6858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053440" y="403920"/>
            <a:ext cx="689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cenění - výpočet ceny lesních porost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539640" y="1268280"/>
            <a:ext cx="77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počet ceny lesního majetku dle zákona o oceňován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611280" y="1773360"/>
            <a:ext cx="77724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ena lesního pozemku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kladní cena za m2 lesního pozemku se zjist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le § 7 a přílohy č. 6 vyhlášk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základě sazeb odpovídajících plošně převládajícím souborům lesních typů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(SLT)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e příslušných porostních skupi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í cena je pak dále upravena srážkami ceny lesních pozemků podle přílohy č. 7 vyhlášky (základní cena lesního pozemku nesmí být nižší než 1,00 Kč za 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elková cena je pak tvořena vynásobením této základní ceny plochou příslušné porostní skupiny v 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 podle vzorce 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poz = SLT *Plps* 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poz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= cena lesního pozemku v Kč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LT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=  cena 1 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lesních pozemků podle souboru lesních typů z přílohy příslušné vyhlášky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lps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=  plocha porostní skupiny (v 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= součet procentických srážek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8404200" cy="557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3"/>
          <a:stretch/>
        </p:blipFill>
        <p:spPr>
          <a:xfrm>
            <a:off x="4427640" y="2565360"/>
            <a:ext cx="4176720" cy="3774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4"/>
          <a:stretch/>
        </p:blipFill>
        <p:spPr>
          <a:xfrm>
            <a:off x="1547640" y="1844640"/>
            <a:ext cx="5789880" cy="4741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/>
          <p:cNvPicPr/>
          <p:nvPr/>
        </p:nvPicPr>
        <p:blipFill>
          <a:blip r:embed="rId5"/>
          <a:stretch/>
        </p:blipFill>
        <p:spPr>
          <a:xfrm>
            <a:off x="1547640" y="1844640"/>
            <a:ext cx="5788080" cy="4740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"/>
          <p:cNvPicPr/>
          <p:nvPr/>
        </p:nvPicPr>
        <p:blipFill>
          <a:blip r:embed="rId6"/>
          <a:stretch/>
        </p:blipFill>
        <p:spPr>
          <a:xfrm>
            <a:off x="0" y="131760"/>
            <a:ext cx="6230880" cy="6726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"/>
          <p:cNvPicPr/>
          <p:nvPr/>
        </p:nvPicPr>
        <p:blipFill>
          <a:blip r:embed="rId7"/>
          <a:stretch/>
        </p:blipFill>
        <p:spPr>
          <a:xfrm>
            <a:off x="2158920" y="155520"/>
            <a:ext cx="6985080" cy="670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1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14:27:14Z</dcterms:created>
  <dc:creator>Kašpar Jiří</dc:creator>
  <dc:description/>
  <dc:language>en-US</dc:language>
  <cp:lastModifiedBy>Jirka</cp:lastModifiedBy>
  <dcterms:modified xsi:type="dcterms:W3CDTF">2024-12-19T07:49:25Z</dcterms:modified>
  <cp:revision>44</cp:revision>
  <dc:subject/>
  <dc:title>Snímek 1</dc:title>
</cp:coreProperties>
</file>