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wmf" ContentType="image/x-wmf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05DB-D523-415F-B013-EE417E8F24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3890-E66A-404B-A412-DFD1BA0DD02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0D25-729E-4753-9328-0CE2473146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3D4-87B0-4055-965C-8E39B4DB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06C-987F-4849-9415-D6673A40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F39-C1A5-446B-8855-AB066902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A2C-9216-4534-AA76-61EA6547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882-6DD6-4603-93EC-F84B86A1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028-9A0F-40A5-9F76-8E265C62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DB7-5029-47F3-A315-346ECD9E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469-6F3D-472A-A570-5E6EEDC7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81D-0546-4139-BA4C-D86AF2AB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BCF-CDC2-4D33-8729-6B23B881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EB5-A506-4C73-8DED-E494D00F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687-2421-4125-B8F6-D711EFBE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F880-5288-4023-BE5C-86B21B96F9E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7"/>
          <p:cNvSpPr/>
          <p:nvPr/>
        </p:nvSpPr>
        <p:spPr>
          <a:xfrm>
            <a:off x="1447920" y="49528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28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66400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32"/>
          <p:cNvSpPr/>
          <p:nvPr/>
        </p:nvSpPr>
        <p:spPr>
          <a:xfrm>
            <a:off x="1332000" y="1484280"/>
            <a:ext cx="665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počet náhrad za škody na lesích pomocí SW VySk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34"/>
          <p:cNvSpPr/>
          <p:nvPr/>
        </p:nvSpPr>
        <p:spPr>
          <a:xfrm>
            <a:off x="826920" y="5805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g.Jiří Kašpar, Foresta S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06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052000" y="403920"/>
            <a:ext cx="537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39640" y="1413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ogramový systém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et škod na lesích a lesních pozemcích způsobených zvěří a ostatními vliv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826920" y="2205000"/>
            <a:ext cx="77724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kázka řešení okruhu Škody zvěří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 editaci dat lze využít výpočtu škod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 zničení lesního prostu (§8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 snížení přírůstu lesního prostu (§9, odst.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 snížené kvality lesního prostu (§11, odst.1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mimořádných opatření (§1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noduchost pořízení vstupních dat po následném šetření v terén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utomatické přiřazení tabulkových hodnot pro výpoč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isk výpočtu formou protokolu o výpočtu pro každou lesní dřevinu a pozeme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žnost dalších úprav dokumentu nebo začlenění výpočtu do vlastního dokument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2000" y="403920"/>
            <a:ext cx="537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39640" y="1413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kázka řešení – Přehled doklad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66484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052000" y="403920"/>
            <a:ext cx="537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39640" y="1413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kázka řešení – Pořízení dat pro škodu S9.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7288560" cy="457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1979640" y="1989000"/>
            <a:ext cx="4343400" cy="4191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586764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257880" cy="4200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6257880" cy="4191120"/>
          </a:xfrm>
          <a:prstGeom prst="rect">
            <a:avLst/>
          </a:prstGeom>
          <a:ln w="0">
            <a:noFill/>
          </a:ln>
        </p:spPr>
      </p:pic>
      <p:sp>
        <p:nvSpPr>
          <p:cNvPr id="126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logoForesta4"/>
          <p:cNvPicPr/>
          <p:nvPr/>
        </p:nvPicPr>
        <p:blipFill>
          <a:blip r:embed="rId3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28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052000" y="403920"/>
            <a:ext cx="537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39640" y="1413000"/>
            <a:ext cx="604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kázka řešení – Protokol o výpoč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4643280" y="907920"/>
            <a:ext cx="4229280" cy="582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5"/>
          <a:stretch/>
        </p:blipFill>
        <p:spPr>
          <a:xfrm>
            <a:off x="3419640" y="836640"/>
            <a:ext cx="4440240" cy="5877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6"/>
          <a:stretch/>
        </p:blipFill>
        <p:spPr>
          <a:xfrm>
            <a:off x="2484360" y="765000"/>
            <a:ext cx="4410000" cy="5950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7"/>
          <a:stretch/>
        </p:blipFill>
        <p:spPr>
          <a:xfrm>
            <a:off x="468360" y="836640"/>
            <a:ext cx="520380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052720" y="403920"/>
            <a:ext cx="6163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počet škod a Újmy omezením L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826920" y="198900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kruh uživatelů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dní znal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 v oboru ekonomika lesního hospodářstv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astníci lesa, jejichž lesní pozemky jsou součástí honite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znikla na nich škoda nebo jejich hospodaření je omezeno z titulu ochrany přírod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rávci obecních a soukromých lesních majetk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borní lesní hospodář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taktní ú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905120" y="1600200"/>
            <a:ext cx="6476760" cy="495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762120" y="1752480"/>
            <a:ext cx="4114800" cy="3048120"/>
          </a:xfrm>
          <a:prstGeom prst="rect">
            <a:avLst/>
          </a:prstGeom>
          <a:solidFill>
            <a:srgbClr val="5ab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066680" y="2057400"/>
            <a:ext cx="4038840" cy="3048120"/>
          </a:xfrm>
          <a:prstGeom prst="rect">
            <a:avLst/>
          </a:prstGeom>
          <a:solidFill>
            <a:srgbClr val="5ab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838080" y="13716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8" descr="Picture 44"/>
          <p:cNvPicPr/>
          <p:nvPr/>
        </p:nvPicPr>
        <p:blipFill>
          <a:blip r:embed="rId2"/>
          <a:stretch/>
        </p:blipFill>
        <p:spPr>
          <a:xfrm>
            <a:off x="914400" y="1905120"/>
            <a:ext cx="4064040" cy="3047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47" name="Text Box 9"/>
          <p:cNvSpPr/>
          <p:nvPr/>
        </p:nvSpPr>
        <p:spPr>
          <a:xfrm>
            <a:off x="5562720" y="1676520"/>
            <a:ext cx="281916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Sídlo firmy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Vsetín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(viz.foto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orní náměstí 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755 01  Vsetí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l: 571/487 1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fax: 571/487 19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e-mail: inf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@foresta.c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foresta.c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514600" y="5486400"/>
            <a:ext cx="4724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Ing. Jiří Kašpar, tel: 603 417 25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kaspar@foresta.c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8159760" y="98280"/>
          <a:ext cx="874800" cy="739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9760" y="98280"/>
                    <a:ext cx="8748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124000" y="380880"/>
            <a:ext cx="6624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í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2465280"/>
            <a:ext cx="7772400" cy="37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lavní funk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škod podle 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hláš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č.55/1999 Sb. MZe v aktuálním znění (dle vyhl.č. 296/2018 a č.440/2023) o způsobu výpočtu výše újmy nebo škody způsobené na lesí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počet poplatku za dočasné nebo trvalé odnětí lesního pozemku z lesního půdního fondu. podle přílohy zákona č. 289/1995 Sb. o lesí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žnost zařazení škody do několika základních okruhů podle příčiny vzniku šk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ná sestava výpočtu jako dokument formátu RTF – možnost archivace a následných úpr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11280" y="1413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ogramový systém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et škod na lesích a lesních pozemcích způsobených imisemi, zvěří a ostatními vliv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755640" y="1557360"/>
            <a:ext cx="77724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ákladní okruhy podle příčiny vzniku škod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dy způsobené zvěří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škození paty stromů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dy změnami chemismu půd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dy stavební činností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dy krádeží dřevní hmo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dy požár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dy zamokření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počet poplatku za trvalé nebo dočasné odnětí lesních pozemk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tupní data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iskové podklady pro jednání o náhradách ve formě přehledných sumářů a tiskových dokumentů formátu RT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port sumárních dat do Excel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619280" y="1305000"/>
            <a:ext cx="3889440" cy="5435640"/>
          </a:xfrm>
          <a:prstGeom prst="rect">
            <a:avLst/>
          </a:prstGeom>
          <a:ln w="0">
            <a:noFill/>
          </a:ln>
        </p:spPr>
      </p:pic>
      <p:sp>
        <p:nvSpPr>
          <p:cNvPr id="60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logoForesta4"/>
          <p:cNvPicPr/>
          <p:nvPr/>
        </p:nvPicPr>
        <p:blipFill>
          <a:blip r:embed="rId2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052360" y="403920"/>
            <a:ext cx="5731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í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244800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67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052360" y="403920"/>
            <a:ext cx="5731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í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755640" y="1413000"/>
            <a:ext cx="77724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Škody zvěř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řešení, jehož cílem je připravit základní podklady a tiskové výstupy pro uplatňování a následné vymáhání náhrad za škody způsobené  zvěří na lesních porostech a pozemcí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platnitelné škod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e zničení lesního porostu – S6 (§8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e snížení přírůstu lesního porostu okusem – S7.2 (§9, odst.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e snížení kvality lesního porostu loupáním nebo ohryzem – S 9.1 (§11 odst.1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 mimořádných nebo nákladově náročnějších opatření  - S11.1 a S11.2 (§1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ort vstupních dat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uční editace potřebných položek s přístupem do databáze načtených LHP z formátu ISLH (xm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8018280" cy="573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8018280" cy="5743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4"/>
          <a:stretch/>
        </p:blipFill>
        <p:spPr>
          <a:xfrm>
            <a:off x="611280" y="907920"/>
            <a:ext cx="8018280" cy="5734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5"/>
          <a:stretch/>
        </p:blipFill>
        <p:spPr>
          <a:xfrm>
            <a:off x="611280" y="907920"/>
            <a:ext cx="8028000" cy="57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76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052360" y="403920"/>
            <a:ext cx="5731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í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755640" y="1413000"/>
            <a:ext cx="77724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škození paty strom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kladní podklady a tiskové výstupy pro uplatňování a následné vymáhání náhrad za škody způsobené  na lesních porostech poškozením paty stromů a odření kořenových náběhů (mechanické poškození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platnitelné škod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e snížení kvality lesního porostu mechanickým poškozením – S 9.1 (§11 odst.1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 mimořádných nebo nákladově náročnějších opatření  - S11.1 a S11.2 (§1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ort vstupních dat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uční editace potřebných položek s přístupem do databáze načtených LHP z formátu ISLH (xm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iskový výstup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stava výpočtu jednotlivých škod jako dokument formátu RTF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81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052360" y="403920"/>
            <a:ext cx="5731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í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755640" y="1413000"/>
            <a:ext cx="77724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dy změnami chemismu půd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kladní podklady a tiskové výstupy pro uplatňování a následné vymáhání náhrad za škody způsobené  na lesních porostech změnami chemických vlastností lesní půdy nebo jejím zamokření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platnitelné škod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 předčasného smýcení  - S5 (§7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ze snížení kvality lesního porostu – S9.2 (§11, odst.3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 mimořádných nebo nákladově náročnějších opatření  - S11.1 a S11.2 (§1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ort vstupních dat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uční editace potřebných položek s přístupem do databáze načtených LHP z formátu ISLH (xm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iskový výstup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stava výpočtu jednotlivých škod jako dokument formátu RTF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8018280" cy="575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684360" y="4941720"/>
            <a:ext cx="7789680" cy="16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88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052360" y="403920"/>
            <a:ext cx="5731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í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55640" y="1413000"/>
            <a:ext cx="77724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dy stavební činnost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kladní podklady a tiskové výstupy pro uplatňování a následné vymáhání náhrad za škody způsobené  na lesních pozemcích a porostech stavební činností (trvalé nebo dočasné zábory lesní půdy pro jiné využití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platnitelné škod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 trvalého odnětí lesního pozemku – S1 (§3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 dočasného odnětí lesního pozemku – S2 (§4) 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…jako alternativ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 předčasného smýcení  - S5 (§7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 mimořádných nebo nákladově náročnějších opatření  - S11.1 a S11.2 (§1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ort vstupních dat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uční editace potřebných položek s přístupem do databáze načtených LHP z formátu ISLH (xm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iskový výstup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stava výpočtu jednotlivých škod jako dokument formátu RTF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8008920" cy="5743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788832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95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052360" y="403920"/>
            <a:ext cx="5731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í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55640" y="1413000"/>
            <a:ext cx="77724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dy krádeží dřevní hmo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kladní podklady a tiskové výstupy pro uplatňování a následné vymáhání náhrad za škody způsobené  na lesních porostech způsobené krádeží dřevní hmoty na pn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platnitelné škod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působená krádeží dřevní hmoty na pni – S10 (§13)  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 mimořádných nebo nákladově náročnějších opatření  - S11.1 a S11.2 (§1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ort vstupních dat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uční editace potřebných položek s přístupem do databáze načtených LHP z formátu ISLH (xm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iskový výstup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stava výpočtu jednotlivých škod jako dokument formátu RTF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8028000" cy="57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052360" y="403920"/>
            <a:ext cx="5731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SkoL - Výpočet škod na lesí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1413000"/>
            <a:ext cx="77724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dy způsobené požár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kladní podklady a tiskové výstupy pro uplatňování a následné vymáhání náhrad za škody způsobené  na lesních porostech způsobené požár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platnitelné škod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 předčasného smýcení  - S5 (§7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e zničení lesního porostu – S6 (§8) 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…jako alternativa pří úplném zničení porostu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Škoda z mimořádných nebo nákladově náročnějších opatření  - S11.1 a S11.2 (§1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ort vstupních dat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uční editace potřebných položek s přístupem do databáze načtených LHP z formátu ISLH (xm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iskový výstup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stava výpočtu jednotlivých škod jako dokument formátu RTF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4:27:14Z</dcterms:created>
  <dc:creator>Kašpar Jiří</dc:creator>
  <dc:description/>
  <dc:language>en-US</dc:language>
  <cp:lastModifiedBy>Jirka</cp:lastModifiedBy>
  <dcterms:modified xsi:type="dcterms:W3CDTF">2024-12-19T07:50:11Z</dcterms:modified>
  <cp:revision>32</cp:revision>
  <dc:subject/>
  <dc:title>Snímek 1</dc:title>
</cp:coreProperties>
</file>