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C28-44DA-409A-8C48-23CB5F49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7DB-9D83-4179-934F-2263C80F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AFB-B5EA-4B24-BC49-307712FE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839-E1A5-419A-8230-73B94E04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9A00-ECC3-4748-A030-834D4604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1A80-F901-4A71-9ACD-11392F16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C2D2-C15D-416E-91BE-A90914DB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0084-0DBB-4D48-9992-355CA1F3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92B7-AC0E-49EE-A253-03C350EC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D28E-AC39-433E-A3AE-5BBE6A0C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1509-DCEA-4BCB-9B4C-C0B554CB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13F-4714-434B-A8E6-DB7BA37E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2525-60EC-43CF-BB58-3F140EB5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8283-92F2-45F6-BFBE-B3EBAF1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82C8-0A20-4BEB-BC0E-A7422101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1157-4729-4F33-AFEA-004B06CE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155F-E233-4B53-A049-FFB6CC6B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43A-6017-4497-B8C2-D24FD364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621-0A8A-458D-9882-2741A7E5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997-074E-4F0A-8A99-D5A13B21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F5C-6568-493D-AF62-38495811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EF5-0C35-4E45-ABB7-93A1698E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A4A-43A1-476A-BAE4-BEC5F836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DC5-7F48-4520-9A16-81AEBC4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5ED8-4766-4202-80D1-71A90A0B8286}" type="slidenum">
              <a:rPr b="0" lang="cs-CZ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C:\My Documents\bits\Expbanna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D:\FRONTPAGE THEMES\EXPEDITN\EXPHORSA.PNG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P:\!Themes\Expedition\EXPHORSA.GIF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5160-49E3-4E81-AE60-5B5BE939AC75}" type="slidenum">
              <a:rPr b="0" lang="cs-CZ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4824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Koncepční řešení úpravy toku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-  přirozená stavba koryta - účel úpravy, stanovení návrhového průtoku, návrh trasy.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Základní informace Stavitelství pro arboristiku (voda v krajině)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1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A.   </a:t>
            </a:r>
            <a:r>
              <a:rPr b="0" lang="cs-CZ" sz="1200" spc="-1" strike="noStrike" u="sng">
                <a:solidFill>
                  <a:srgbClr val="482400"/>
                </a:solidFill>
                <a:uFillTx/>
                <a:latin typeface="Times New Roman"/>
                <a:ea typeface="Times New Roman"/>
              </a:rPr>
              <a:t>Přirozená stavba koryta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-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-  horní tok výrazně vymílán, převážná část v lesní trati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-  rozkolísanost průtoků (stoupá se zmenšujícím povodím)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- od středního toku je patrná silná meandrovitost koryta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- v příčném řezu není konstantní profil - s časem se mění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- v podélném profilu není konstantní spád -     --- “ ---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                             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- proudění v toku je většinou nerovnoměrné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                             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- vegetační doprovod zasahuje do průtočného profilu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                                    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- v konkávách oblouků nátrže, ve dně tvorba výmolů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                             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- v konvexách  vznik nánosů, zarůstání koryta…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                             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- celé koryto se posunuje směrem po toku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- široká inundace provádí povodňové průtoky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- kvalita vody I , II ,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vyjímečně III, poč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etná rybí obsádka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- spolu s okolím tvoří takový tok stabilní ekosystém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89" name="Picture 3" descr="C:\Program Files\Common Files\Microsoft Shared\Clipart\cagcat50\AN02097_.wmf"/>
          <p:cNvPicPr/>
          <p:nvPr/>
        </p:nvPicPr>
        <p:blipFill>
          <a:blip r:embed="rId1"/>
          <a:stretch/>
        </p:blipFill>
        <p:spPr>
          <a:xfrm>
            <a:off x="6324480" y="685800"/>
            <a:ext cx="2279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838080" y="228600"/>
            <a:ext cx="8001000" cy="71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Účel úpravy kory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chrana před povodně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utnost stabilizace příčného (podélného) profi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utnost stabilizace (změny) trasy to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ajištění (změna úrovně) hladiny podzemní v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storové důvody - získání stavebních plo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polu s jezem zajištění odběrů - M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ávla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dběr pro průmys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ajištění výstavby zdymadla (jez, elektrárna, plav. komor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plavnění to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statní aspekty - ekologické  (revitalizace tok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ěstební (zlepšení podm. pro rybí obsádk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ůtok toku parkem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C:\Program Files\Common Files\Microsoft Shared\Clipart\cagcat50\AN02097_.wmf"/>
          <p:cNvPicPr/>
          <p:nvPr/>
        </p:nvPicPr>
        <p:blipFill>
          <a:blip r:embed="rId1"/>
          <a:stretch/>
        </p:blipFill>
        <p:spPr>
          <a:xfrm>
            <a:off x="6062760" y="2438280"/>
            <a:ext cx="2085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762120" y="533520"/>
            <a:ext cx="8381880" cy="65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ovení návrhového prů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ost návrhového průtoku „Q</a:t>
            </a:r>
            <a:r>
              <a:rPr b="1" i="1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vyplývá z ekonomické rozvah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cs-CZ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jedné straně :  velikost škod a nákladů na jejich odstraně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i="1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druhé straně :  náklady na provedení úpr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ávrhový průtok pro kapacitu koryta volíme dle charakteru okolí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 kultury, zástavba                                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ké centrum měst, unikátní his. památky   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vislá městská zástavba, průmysl                      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ležité liniové stavby - dálnice, železnice           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0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ná orná půda - vinice, chmelnice, sady, osady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0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e, zahrady - dle plodin                                      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uky, lesy                                                              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 posouzení stability koryta uvažujeme 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ást  koryta                                            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o   -    neopevněné                                                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o   -    opevněné                                                   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řehy a bermy  neopevněné                                     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řehy a bermy  opevněné                                         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né hráze                                                            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 stanovování  Q</a:t>
            </a:r>
            <a:r>
              <a:rPr b="0" lang="cs-CZ" sz="1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ycházíme z hydrologických údajů stanovených HMÚ, případně s údajů SV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C:\Program Files\Common Files\Microsoft Shared\Clipart\cagcat50\AN02097_.wmf"/>
          <p:cNvPicPr/>
          <p:nvPr/>
        </p:nvPicPr>
        <p:blipFill>
          <a:blip r:embed="rId1"/>
          <a:stretch/>
        </p:blipFill>
        <p:spPr>
          <a:xfrm>
            <a:off x="6080040" y="2286000"/>
            <a:ext cx="2409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848360" cy="617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482400"/>
                </a:solidFill>
                <a:uFillTx/>
                <a:latin typeface="Times New Roman"/>
                <a:ea typeface="Times New Roman"/>
              </a:rPr>
              <a:t>Základní koncepce řešení úpravy toku :</a:t>
            </a:r>
            <a:br>
              <a:rPr sz="1600"/>
            </a:br>
            <a:r>
              <a:rPr b="0" lang="cs-CZ" sz="1200" spc="-1" strike="noStrike" u="sng">
                <a:solidFill>
                  <a:srgbClr val="482400"/>
                </a:solidFill>
                <a:uFillTx/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1.</a:t>
            </a:r>
            <a:r>
              <a:rPr b="1" lang="cs-CZ" sz="1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Bez ochranných hrází</a:t>
            </a:r>
            <a:r>
              <a:rPr b="0" lang="cs-CZ" sz="1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, zvětšením současného průřezu koryta, změnou podélného sklonu dna,</a:t>
            </a:r>
            <a:br>
              <a:rPr sz="1400"/>
            </a:br>
            <a:r>
              <a:rPr b="0" lang="cs-CZ" sz="1400" spc="-1" strike="noStrike">
                <a:solidFill>
                  <a:srgbClr val="482400"/>
                </a:solidFill>
                <a:latin typeface="Times New Roman"/>
              </a:rPr>
              <a:t>                                           napřímením toku… </a:t>
            </a:r>
            <a:r>
              <a:rPr b="0" lang="cs-CZ" sz="1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</a:t>
            </a:r>
            <a:r>
              <a:rPr b="0" lang="cs-CZ" sz="1400" spc="-1" strike="noStrike">
                <a:solidFill>
                  <a:srgbClr val="482400"/>
                </a:solidFill>
                <a:latin typeface="Times New Roman"/>
              </a:rPr>
              <a:t>                                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</a:t>
            </a:r>
            <a:r>
              <a:rPr b="0" lang="cs-CZ" sz="1200" spc="-1" strike="noStrike" u="sng">
                <a:solidFill>
                  <a:srgbClr val="482400"/>
                </a:solidFill>
                <a:uFillTx/>
                <a:latin typeface="Times New Roman"/>
                <a:ea typeface="Times New Roman"/>
              </a:rPr>
              <a:t>Výhody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: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         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možnost vysokého nasazení mechanizace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zajištění stability dna i břehů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zajištění dostatečné kapacity vlastního koryta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příprava pro následné stavby v říčním korytě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vhodnější dostupnost, následná údržba koryta ...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v rámci úpravy vlastního koryta toku možnost stabilizace a fixace příčného řezu (intravilán)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</a:t>
            </a:r>
            <a:r>
              <a:rPr b="0" lang="cs-CZ" sz="1200" spc="-1" strike="noStrike" u="sng">
                <a:solidFill>
                  <a:srgbClr val="482400"/>
                </a:solidFill>
                <a:uFillTx/>
                <a:latin typeface="Times New Roman"/>
                <a:ea typeface="Times New Roman"/>
              </a:rPr>
              <a:t>Nevýhody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: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úpravou dojde k rychlejšímu odvedení vody z povodí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 upravené, stabilizované dno i břehy nepodporují (alespoň z počátku) život v toku a jeho okolí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 silné narušení, zničení vegetačního doprovodu toku...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            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momentální, mnohdy i konečná změna funkce toku v krajině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 může dojít ke změně úrovně hladiny spodní vody, aj.         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5" name="Picture 3" descr="C:\Program Files\Common Files\Microsoft Shared\Clipart\cagcat50\AN02097_.wmf"/>
          <p:cNvPicPr/>
          <p:nvPr/>
        </p:nvPicPr>
        <p:blipFill>
          <a:blip r:embed="rId1"/>
          <a:stretch/>
        </p:blipFill>
        <p:spPr>
          <a:xfrm>
            <a:off x="6572160" y="2057400"/>
            <a:ext cx="130176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Program Files\Common Files\Microsoft Shared\Clipart\cagcat50\AN02542_.wmf"/>
          <p:cNvPicPr/>
          <p:nvPr/>
        </p:nvPicPr>
        <p:blipFill>
          <a:blip r:embed="rId2"/>
          <a:stretch/>
        </p:blipFill>
        <p:spPr>
          <a:xfrm>
            <a:off x="8153280" y="3352680"/>
            <a:ext cx="5335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617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2. </a:t>
            </a:r>
            <a:r>
              <a:rPr b="1" lang="cs-CZ" sz="1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Výstavbou hrází </a:t>
            </a:r>
            <a:r>
              <a:rPr b="0" lang="cs-CZ" sz="1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podél vodního toku, bez technických zásahů   do říčního koryta.</a:t>
            </a:r>
            <a:r>
              <a:rPr b="0" lang="cs-CZ" sz="16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Výhody  :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není zásadně ohrožen život v toku a okolí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stávající biocentra a biokoridory nemusí  ztratit funkčnost,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                  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vznikem mezihrázních prostorů může dojít k rozšíření zelených pásů kolem toků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nemusí dojit k zásahům do říčního ekosystému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    nemusí dojít k výraznému narušení charakteru toku...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Nevýhody  :  inundace - mezihrázní prostory jsou zaplavovány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        sporadické možnosti využití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        zábor ploch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        nutná ochrana, údržba hrází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                          zhoršení přístupu k toku, znasnadnění údržby...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Mnohdy se však nevyhneme technickému zásahu do toku. V praxi tedy využíváme kombinaci obou metod, s vědomím nutnosti minimalizace technických zásahů.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1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Revitalizace vodních toků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 - náprava mnohdy nevhodně provedených úprav toků v minulosti. Tkví především v rekonstrukci břehových a doprovodných porostů, i v úpravách příčného profilu.</a:t>
            </a:r>
            <a:br>
              <a:rPr sz="1200"/>
            </a:br>
            <a:endParaRPr b="0" lang="en-US" sz="1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8" name="Picture 3" descr="C:\Program Files\Common Files\Microsoft Shared\Clipart\cagcat50\AN02097_.wmf"/>
          <p:cNvPicPr/>
          <p:nvPr/>
        </p:nvPicPr>
        <p:blipFill>
          <a:blip r:embed="rId1"/>
          <a:stretch/>
        </p:blipFill>
        <p:spPr>
          <a:xfrm>
            <a:off x="6575400" y="2971800"/>
            <a:ext cx="143352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Program Files\Common Files\Microsoft Shared\Clipart\cagcat50\AN02542_.wmf"/>
          <p:cNvPicPr/>
          <p:nvPr/>
        </p:nvPicPr>
        <p:blipFill>
          <a:blip r:embed="rId2"/>
          <a:stretch/>
        </p:blipFill>
        <p:spPr>
          <a:xfrm>
            <a:off x="8305920" y="4410000"/>
            <a:ext cx="498240" cy="480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Program Files\Common Files\Microsoft Shared\Clipart\cagcat50\AN02542_.wmf"/>
          <p:cNvPicPr/>
          <p:nvPr/>
        </p:nvPicPr>
        <p:blipFill>
          <a:blip r:embed="rId3"/>
          <a:stretch/>
        </p:blipFill>
        <p:spPr>
          <a:xfrm>
            <a:off x="7620120" y="4724280"/>
            <a:ext cx="53316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624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482400"/>
              </a:buClr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Návrh  trasy  tok</a:t>
            </a:r>
            <a:r>
              <a:rPr b="1" lang="cs-CZ" sz="1400" spc="-1" strike="noStrike">
                <a:solidFill>
                  <a:srgbClr val="482400"/>
                </a:solidFill>
                <a:latin typeface="Times New Roman"/>
              </a:rPr>
              <a:t>u</a:t>
            </a:r>
            <a:br>
              <a:rPr sz="1400"/>
            </a:br>
            <a:r>
              <a:rPr b="0" lang="cs-CZ" sz="14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Obecným základem úprav toků je tzv. „soustavná (celková) úprava toku“. I když v praxi preferujeme „ ekobiologickou úpravu“, prvky soustavné úpravy je nutno znát jako základ dalšího využití.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Obecně platná kriteria návrhu :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1.   Trasa má být volena tak, aby maximálně využívala původní koryto, minimálně poškozovala veg. doprovod 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 toku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2.   Konkávní břehy oblouků nového koryta umísťujeme do rostlého terénu, pouze vyjímečně do násypu.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3.   Při křížení s liniovou stavbou je nejvhodnější úhel křížení 90</a:t>
            </a:r>
            <a:r>
              <a:rPr b="0" lang="cs-CZ" sz="1200" spc="-1" strike="noStrike">
                <a:solidFill>
                  <a:srgbClr val="482400"/>
                </a:solidFill>
                <a:latin typeface="Symbol"/>
                <a:ea typeface="Symbol"/>
              </a:rPr>
              <a:t>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, nemá být však menší jako 60</a:t>
            </a:r>
            <a:r>
              <a:rPr b="0" lang="cs-CZ" sz="1200" spc="-1" strike="noStrike">
                <a:solidFill>
                  <a:srgbClr val="482400"/>
                </a:solidFill>
                <a:latin typeface="Symbol"/>
                <a:ea typeface="Symbol"/>
              </a:rPr>
              <a:t>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.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4.   Trasa má mít tvar vlnovky, má být složena z protisměrných oblouků, s případnou mezipřímou.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5.   Zpravidla využíváme jednoduché oblouky, vyjímečně jiné (složené kruhové, leminiskátové...).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6.   Prahy, stupně, jezy umísťujeme zpravidla v přímé, případně v první třetině oblouku (po toku).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7.   Poloměry oblouků (r) nemají být menší než 6 B (B = šířka koryta v hladině při Q</a:t>
            </a:r>
            <a:r>
              <a:rPr b="0" lang="cs-CZ" sz="1200" spc="-1" strike="noStrike" baseline="-30000">
                <a:solidFill>
                  <a:srgbClr val="482400"/>
                </a:solidFill>
                <a:latin typeface="Times New Roman"/>
                <a:ea typeface="Times New Roman"/>
              </a:rPr>
              <a:t>N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), vhodné jsou cca 10 B.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8.   Mezi protisměrné oblouky vkládáme přímou o délce max. 3 B, delší než 4 B není vhodné navrhovat. (kratší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</a:rPr>
              <a:t>      ano)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9.   Při návrhu nové trasy respektujeme stávající zástavbu, komunikace, aj.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10.  Oblouky by měly mít středový úhel cca od 20 do 90</a:t>
            </a:r>
            <a:r>
              <a:rPr b="0" lang="cs-CZ" sz="1200" spc="-1" strike="noStrike">
                <a:solidFill>
                  <a:srgbClr val="482400"/>
                </a:solidFill>
                <a:latin typeface="Symbol"/>
                <a:ea typeface="Symbol"/>
              </a:rPr>
              <a:t></a:t>
            </a: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, jiný pouze vyjímečně.</a:t>
            </a: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Při vlastním návrhu vycházíme ze situace, nutné osobní prohlídky toku a předběžných konzultací se zainteresovanými ogranizacemi.</a:t>
            </a:r>
            <a:endParaRPr b="0" lang="en-US" sz="1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2" name="Picture 3" descr="C:\Program Files\Common Files\Microsoft Shared\Clipart\cagcat50\AN02542_.wmf"/>
          <p:cNvPicPr/>
          <p:nvPr/>
        </p:nvPicPr>
        <p:blipFill>
          <a:blip r:embed="rId1"/>
          <a:stretch/>
        </p:blipFill>
        <p:spPr>
          <a:xfrm>
            <a:off x="7772400" y="5369040"/>
            <a:ext cx="6094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6:40:59Z</dcterms:created>
  <dc:creator>VUT FAST</dc:creator>
  <dc:description/>
  <dc:language>en-US</dc:language>
  <cp:lastModifiedBy>Slezingr</cp:lastModifiedBy>
  <dcterms:modified xsi:type="dcterms:W3CDTF">2019-11-25T13:41:27Z</dcterms:modified>
  <cp:revision>3</cp:revision>
  <dc:subject/>
  <dc:title>Koncepční řešení úpravy toku -  přirozená stavba koryta - účel úpravy, stanovení návrhového průtoku, návrh trasy.     A.   Přirozená stavba koryta -                -  horní tok výrazně vymílán, převážná část v lesní trati               -  rozkolísanost průtoků (stoupá se zmenšujícím povodím)          - od středního toku je patrná silná meandrovitost koryta          - v příčném řezu není konstantní profil - s časem se mění          - v podélném profilu není konstantní spád -     --- “ ---                                                - proudění v toku je většinou nerovnoměrné                                                - vegetační doprovod zasahuje do průtočného profilu                                                - v konkávách oblouků nátrže, ve dně tvorba výmolů                                                - v konvexách  vznik nánosů, zarůstání koryta…                                                 - celé koryto se posunuje směrem po toku          - široká inundace provádí povodňové průtoky          - kvalita vody I , II , vyjímečně III, početná rybí obsádka               - spolu s okolím tvoří takový tok stabilní ekosystém    </dc:title>
</cp:coreProperties>
</file>