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3.jpeg" ContentType="image/jpeg"/>
  <Override PartName="/ppt/media/image30.png" ContentType="image/png"/>
  <Override PartName="/ppt/media/image28.png" ContentType="image/png"/>
  <Override PartName="/ppt/media/image4.jpeg" ContentType="image/jpeg"/>
  <Override PartName="/ppt/media/image25.png" ContentType="image/png"/>
  <Override PartName="/ppt/media/image6.png" ContentType="image/png"/>
  <Override PartName="/ppt/media/image11.png" ContentType="image/png"/>
  <Override PartName="/ppt/media/image9.jpeg" ContentType="image/jpeg"/>
  <Override PartName="/ppt/media/image7.png" ContentType="image/png"/>
  <Override PartName="/ppt/media/image5.jpeg" ContentType="image/jpeg"/>
  <Override PartName="/ppt/media/image27.png" ContentType="image/png"/>
  <Override PartName="/ppt/media/image12.wmf" ContentType="image/x-wmf"/>
  <Override PartName="/ppt/media/image8.png" ContentType="image/png"/>
  <Override PartName="/ppt/media/image13.png" ContentType="image/png"/>
  <Override PartName="/ppt/media/image2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21.wmf" ContentType="image/x-wmf"/>
  <Override PartName="/ppt/media/image19.png" ContentType="image/png"/>
  <Override PartName="/ppt/media/image20.jpeg" ContentType="image/jpeg"/>
  <Override PartName="/ppt/media/image22.wmf" ContentType="image/x-wmf"/>
  <Override PartName="/ppt/media/image23.png" ContentType="image/png"/>
  <Override PartName="/ppt/media/image24.png" ContentType="image/png"/>
  <Override PartName="/ppt/media/image2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B148-E0D4-4B7B-A86C-3260048C19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363D-0C6F-45D8-B237-51062BE3B5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ift to remember distances and angles in gripm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60CC-47F8-4BDB-9E22-537C1A5E91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8F63-447D-4898-B99D-A6337BD5FB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75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320760" y="4344840"/>
            <a:ext cx="62863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84CD-1B66-4FF1-9A45-87C31CB333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2FE5-D0D3-49F7-B914-5FD57D4952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692360" y="687240"/>
            <a:ext cx="3568680" cy="26766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2600" y="3588840"/>
            <a:ext cx="5305320" cy="48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 version comparison - Design Review can compare 2D DWF files and vector content to allow a reviewer to understand what has changed between versions. This is a significant benefit to the collaboration process, particularly when new drawings are received without explanation of chang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ow it work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re multiple versions of drawings in a “lightboard-style” fashion, with versions overlaid upon one another.  Design Review automatically highlights additions, deletions, and other modific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ame Compare feature can be used to overlay HVAC, survey data, or other design information over a building design. Select a unique color using the Compare Options feature, to identify the overlaid information. Note, the drawing files need to be the same size to perform this tas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25C9-18F4-404C-B64C-5995E62DED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692360" y="687240"/>
            <a:ext cx="3568680" cy="2676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2600" y="3588840"/>
            <a:ext cx="5305320" cy="48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reehweel is our new Software as a Service solution – to share your designs with clients, suppliers, consultants, etc. – without requiring them to install any softwar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e started testing Freewheel on Autodesk labs last summer and had such a strong response that we’ve made it a fully released product, available free of char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nce you publish a DWF file, simply go to Freewheel.Autodesk.com – and upload the file, then email it to anyone on your tea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at team member can click on the link and go to the view you want them to see. Review that file – even print i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ral customers are already finding it to be a great way to display product catalogs onl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6A9F-9824-44FD-8D3D-654F32E787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692360" y="685800"/>
            <a:ext cx="3568680" cy="26766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3588840"/>
            <a:ext cx="5302080" cy="48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I t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m and Ext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mp,tif,png,jpg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FR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TMOVE sysvar – position text of new dim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 whether or not object snaps work on hatch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2P/mtp osn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ter Eg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xilary scale factor for blocks and hatch patterns on palet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DITACCE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imize view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T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ital Signa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TED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 Previ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D Standards Check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reassoci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 pallette with design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yles Toolb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 click Custom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buttonp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up ic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ref – relative 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69D1-8BCE-462C-9B30-F2EA920319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C21E-27F2-4087-B312-D4C1A9EF29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ons dialog – Previous View combines Zoom and P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gnore Hatch objects and Replace Z Value for Osnaps (Op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 Z Value with Current Elevation for Osnaps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SNAPZ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ystem variab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fr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Permits wildc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3A67-A18E-4D17-B650-67FB931C0B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F671-E0C8-4241-BB89-02855FFAD9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7682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8600" y="4019040"/>
            <a:ext cx="7682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55200" y="141552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8600" y="401904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55200" y="401904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24732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16000" y="1415520"/>
            <a:ext cx="24732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13040" y="1415520"/>
            <a:ext cx="24732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8600" y="4019040"/>
            <a:ext cx="24732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16000" y="4019040"/>
            <a:ext cx="24732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13040" y="4019040"/>
            <a:ext cx="24732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18600" y="1415520"/>
            <a:ext cx="7682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7682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37486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55200" y="1415520"/>
            <a:ext cx="37486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18600" y="136080"/>
            <a:ext cx="768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55200" y="1415520"/>
            <a:ext cx="37486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18600" y="401904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8600" y="1415520"/>
            <a:ext cx="7682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37486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55200" y="141552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255200" y="401904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55200" y="141552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18600" y="4019040"/>
            <a:ext cx="7682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7682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18600" y="4019040"/>
            <a:ext cx="7682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55200" y="141552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18600" y="401904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255200" y="401904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24732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916000" y="1415520"/>
            <a:ext cx="24732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13040" y="1415520"/>
            <a:ext cx="24732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18600" y="4019040"/>
            <a:ext cx="24732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916000" y="4019040"/>
            <a:ext cx="24732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13040" y="4019040"/>
            <a:ext cx="24732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18600" y="1415520"/>
            <a:ext cx="7682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7682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37486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255200" y="1415520"/>
            <a:ext cx="37486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7682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18600" y="136080"/>
            <a:ext cx="768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55200" y="1415520"/>
            <a:ext cx="37486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18600" y="401904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37486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255200" y="141552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255200" y="401904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55200" y="141552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18600" y="4019040"/>
            <a:ext cx="7682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7682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18600" y="4019040"/>
            <a:ext cx="7682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55200" y="141552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18600" y="401904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255200" y="401904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24732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916000" y="1415520"/>
            <a:ext cx="24732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513040" y="1415520"/>
            <a:ext cx="24732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18600" y="4019040"/>
            <a:ext cx="24732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2916000" y="4019040"/>
            <a:ext cx="24732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513040" y="4019040"/>
            <a:ext cx="24732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18600" y="1415520"/>
            <a:ext cx="7682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7682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37486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55200" y="1415520"/>
            <a:ext cx="37486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37486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255200" y="1415520"/>
            <a:ext cx="37486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18600" y="136080"/>
            <a:ext cx="768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55200" y="1415520"/>
            <a:ext cx="37486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18600" y="401904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37486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55200" y="141552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255200" y="401904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255200" y="141552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18600" y="4019040"/>
            <a:ext cx="7682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7682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8600" y="4019040"/>
            <a:ext cx="7682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55200" y="141552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18600" y="401904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255200" y="401904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24732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916000" y="1415520"/>
            <a:ext cx="24732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513040" y="1415520"/>
            <a:ext cx="24732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18600" y="4019040"/>
            <a:ext cx="24732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916000" y="4019040"/>
            <a:ext cx="24732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513040" y="4019040"/>
            <a:ext cx="24732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318600" y="1415520"/>
            <a:ext cx="7682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7682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37486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255200" y="1415520"/>
            <a:ext cx="37486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18600" y="136080"/>
            <a:ext cx="768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255200" y="1415520"/>
            <a:ext cx="37486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18600" y="401904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37486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255200" y="141552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255200" y="401904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255200" y="141552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18600" y="4019040"/>
            <a:ext cx="7682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7682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600" y="4019040"/>
            <a:ext cx="7682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255200" y="141552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18600" y="401904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255200" y="401904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8600" y="136080"/>
            <a:ext cx="768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24732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916000" y="1415520"/>
            <a:ext cx="24732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513040" y="1415520"/>
            <a:ext cx="24732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318600" y="4019040"/>
            <a:ext cx="24732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2916000" y="4019040"/>
            <a:ext cx="24732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513040" y="4019040"/>
            <a:ext cx="24732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318600" y="1415520"/>
            <a:ext cx="7682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7682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37486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255200" y="1415520"/>
            <a:ext cx="37486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318600" y="136080"/>
            <a:ext cx="768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55200" y="1415520"/>
            <a:ext cx="37486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18600" y="401904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37486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55200" y="141552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255200" y="401904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55200" y="141552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18600" y="4019040"/>
            <a:ext cx="7682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55200" y="1415520"/>
            <a:ext cx="37486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8600" y="401904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7682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8600" y="4019040"/>
            <a:ext cx="7682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55200" y="141552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18600" y="401904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255200" y="401904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24732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916000" y="1415520"/>
            <a:ext cx="24732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513040" y="1415520"/>
            <a:ext cx="24732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318600" y="4019040"/>
            <a:ext cx="24732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2916000" y="4019040"/>
            <a:ext cx="24732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513040" y="4019040"/>
            <a:ext cx="247320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37486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55200" y="141552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55200" y="401904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55200" y="1415520"/>
            <a:ext cx="374868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8600" y="4019040"/>
            <a:ext cx="7682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"/>
          <p:cNvSpPr/>
          <p:nvPr/>
        </p:nvSpPr>
        <p:spPr>
          <a:xfrm>
            <a:off x="318960" y="6573960"/>
            <a:ext cx="2210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18600" y="1415880"/>
            <a:ext cx="821556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-233280">
              <a:spcBef>
                <a:spcPts val="451"/>
              </a:spcBef>
              <a:spcAft>
                <a:spcPts val="451"/>
              </a:spcAft>
              <a:buClr>
                <a:srgbClr val="00aa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90480" indent="-228600">
              <a:spcBef>
                <a:spcPts val="451"/>
              </a:spcBef>
              <a:spcAft>
                <a:spcPts val="451"/>
              </a:spcAft>
              <a:buClr>
                <a:srgbClr val="00aa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977760" indent="-17280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14680" indent="-22860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1468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1468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0" y="657396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467C-DDDC-45E2-8226-E5954BEF2A83}" type="slidenum">
              <a:rPr b="0" lang="en-US" sz="8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18600" y="136080"/>
            <a:ext cx="8215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6" descr="bar_only_black"/>
          <p:cNvPicPr/>
          <p:nvPr/>
        </p:nvPicPr>
        <p:blipFill>
          <a:blip r:embed="rId2"/>
          <a:stretch/>
        </p:blipFill>
        <p:spPr>
          <a:xfrm>
            <a:off x="8550360" y="0"/>
            <a:ext cx="59364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095880" y="6535800"/>
            <a:ext cx="2210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Arial"/>
              </a:rPr>
              <a:t>© 2005 Autode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18600" y="1415520"/>
            <a:ext cx="7682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Aft>
                <a:spcPts val="125"/>
              </a:spcAft>
              <a:buClr>
                <a:srgbClr val="007db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Aft>
                <a:spcPts val="125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spcAft>
                <a:spcPts val="125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228600">
              <a:spcAft>
                <a:spcPts val="125"/>
              </a:spcAft>
              <a:buClr>
                <a:srgbClr val="007dba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228600">
              <a:spcAft>
                <a:spcPts val="125"/>
              </a:spcAft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228600">
              <a:spcAft>
                <a:spcPts val="125"/>
              </a:spcAft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318960" y="6535440"/>
            <a:ext cx="37958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CEO FY08 Strategic Plan-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4572000" y="65358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63E1-1474-4AEE-B25D-75AE8CA6AB9F}" type="slidenum">
              <a:rPr b="0" lang="en-US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4572000" y="657396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E3AC-9B40-4D62-B8E8-8A657D931D5F}" type="slidenum">
              <a:rPr b="0" lang="en-US" sz="8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seg_black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68594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2438280" y="1447920"/>
            <a:ext cx="2210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4572000" y="657396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BFC6-DA10-4656-A858-66D8964E2857}" type="slidenum">
              <a:rPr b="0" lang="en-US" sz="8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18960" y="6573960"/>
            <a:ext cx="2210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4572000" y="657396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41FF-B997-4A47-8CBF-A756D4F0E975}" type="slidenum">
              <a:rPr b="0" lang="en-US" sz="8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4572000" y="657396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905A-746D-4C15-8D0D-6EF4C49C66E6}" type="slidenum">
              <a:rPr b="0" lang="en-US" sz="8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318600" y="1415880"/>
            <a:ext cx="821556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-233280">
              <a:spcBef>
                <a:spcPts val="451"/>
              </a:spcBef>
              <a:spcAft>
                <a:spcPts val="451"/>
              </a:spcAft>
              <a:buClr>
                <a:srgbClr val="00aa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90480" indent="-228600">
              <a:spcBef>
                <a:spcPts val="451"/>
              </a:spcBef>
              <a:spcAft>
                <a:spcPts val="451"/>
              </a:spcAft>
              <a:buClr>
                <a:srgbClr val="00aa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977760" indent="-17280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14680" indent="-22860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1468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1468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318600" y="136080"/>
            <a:ext cx="8215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transitio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4572000" y="65358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5502-0858-4E5F-BD7A-232C13F2E782}" type="slidenum">
              <a:rPr b="0" lang="en-US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18600" y="1415520"/>
            <a:ext cx="7682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Aft>
                <a:spcPts val="125"/>
              </a:spcAft>
              <a:buClr>
                <a:srgbClr val="007db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Aft>
                <a:spcPts val="125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spcAft>
                <a:spcPts val="125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228600">
              <a:spcAft>
                <a:spcPts val="125"/>
              </a:spcAft>
              <a:buClr>
                <a:srgbClr val="007dba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228600">
              <a:spcAft>
                <a:spcPts val="125"/>
              </a:spcAft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228600">
              <a:spcAft>
                <a:spcPts val="125"/>
              </a:spcAft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2"/>
          </p:nvPr>
        </p:nvSpPr>
        <p:spPr>
          <a:xfrm>
            <a:off x="318960" y="6535800"/>
            <a:ext cx="411336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Autodesk Presentation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>
            <a:off x="6095880" y="6535800"/>
            <a:ext cx="2210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Arial"/>
              </a:rPr>
              <a:t>© 2005 Autode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4572000" y="65358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BFC1-FEC8-4AD7-ABAB-460E44990416}" type="slidenum">
              <a:rPr b="0" lang="en-US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318600" y="1415520"/>
            <a:ext cx="7682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Aft>
                <a:spcPts val="125"/>
              </a:spcAft>
              <a:buClr>
                <a:srgbClr val="007db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Aft>
                <a:spcPts val="125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spcAft>
                <a:spcPts val="125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228600">
              <a:spcAft>
                <a:spcPts val="125"/>
              </a:spcAft>
              <a:buClr>
                <a:srgbClr val="007dba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228600">
              <a:spcAft>
                <a:spcPts val="125"/>
              </a:spcAft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228600">
              <a:spcAft>
                <a:spcPts val="125"/>
              </a:spcAft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6095880" y="6535800"/>
            <a:ext cx="2210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Arial"/>
              </a:rPr>
              <a:t>© 2005 Autode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4572000" y="65358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B626-5262-4DA5-8921-11BD41274F11}" type="slidenum">
              <a:rPr b="0" lang="en-US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18600" y="1415520"/>
            <a:ext cx="7682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Aft>
                <a:spcPts val="125"/>
              </a:spcAft>
              <a:buClr>
                <a:srgbClr val="007db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Aft>
                <a:spcPts val="125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spcAft>
                <a:spcPts val="125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228600">
              <a:spcAft>
                <a:spcPts val="125"/>
              </a:spcAft>
              <a:buClr>
                <a:srgbClr val="007dba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228600">
              <a:spcAft>
                <a:spcPts val="125"/>
              </a:spcAft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228600">
              <a:spcAft>
                <a:spcPts val="125"/>
              </a:spcAft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3"/>
          </p:nvPr>
        </p:nvSpPr>
        <p:spPr>
          <a:xfrm>
            <a:off x="318960" y="6535800"/>
            <a:ext cx="411336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AutoCAD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18600" y="3016080"/>
            <a:ext cx="493884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0  AutoCAD Tips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0 Min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318600" y="4113360"/>
            <a:ext cx="48625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85000"/>
              </a:lnSpc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ynn A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utodesk Technical Evangel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mensioning tips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all ne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18960" y="1415880"/>
            <a:ext cx="3795840" cy="34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71680" indent="-457200">
              <a:lnSpc>
                <a:spcPct val="80000"/>
              </a:lnSpc>
              <a:spcAft>
                <a:spcPts val="125"/>
              </a:spcAft>
              <a:buClr>
                <a:srgbClr val="007dba"/>
              </a:buClr>
              <a:buSzPct val="80000"/>
              <a:buFont typeface="Arial"/>
              <a:buAutoNum type="arabicParenR" startAt="5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L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457200">
              <a:lnSpc>
                <a:spcPct val="80000"/>
              </a:lnSpc>
              <a:spcAft>
                <a:spcPts val="125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457200">
              <a:lnSpc>
                <a:spcPct val="80000"/>
              </a:lnSpc>
              <a:spcAft>
                <a:spcPts val="125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ing or trailing position on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457200">
              <a:lnSpc>
                <a:spcPct val="80000"/>
              </a:lnSpc>
              <a:spcAft>
                <a:spcPts val="125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for placement of leader with respect to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lnSpc>
                <a:spcPct val="80000"/>
              </a:lnSpc>
              <a:spcAft>
                <a:spcPts val="125"/>
              </a:spcAft>
              <a:buClr>
                <a:srgbClr val="007dba"/>
              </a:buClr>
              <a:buSzPct val="80000"/>
              <a:buFont typeface="Arial"/>
              <a:buAutoNum type="arabicParenR" startAt="5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EADERAL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lnSpc>
                <a:spcPct val="80000"/>
              </a:lnSpc>
              <a:spcAft>
                <a:spcPts val="125"/>
              </a:spcAft>
              <a:buClr>
                <a:srgbClr val="007dba"/>
              </a:buClr>
              <a:buSzPct val="80000"/>
              <a:buFont typeface="Arial"/>
              <a:buAutoNum type="arabicParenR" startAt="5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EADERCOll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lnSpc>
                <a:spcPct val="80000"/>
              </a:lnSpc>
              <a:spcAft>
                <a:spcPts val="125"/>
              </a:spcAft>
              <a:buClr>
                <a:srgbClr val="007dba"/>
              </a:buClr>
              <a:buSzPct val="80000"/>
              <a:buFont typeface="Arial"/>
              <a:buAutoNum type="arabicParenR" startAt="5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M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lnSpc>
                <a:spcPct val="80000"/>
              </a:lnSpc>
              <a:spcAft>
                <a:spcPts val="125"/>
              </a:spcAft>
              <a:buClr>
                <a:srgbClr val="007dba"/>
              </a:buClr>
              <a:buSzPct val="80000"/>
              <a:buFont typeface="Arial"/>
              <a:buAutoNum type="arabicParenR" startAt="5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MJOG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lnSpc>
                <a:spcPct val="80000"/>
              </a:lnSpc>
              <a:spcAft>
                <a:spcPts val="125"/>
              </a:spcAft>
              <a:buClr>
                <a:srgbClr val="007dba"/>
              </a:buClr>
              <a:buSzPct val="80000"/>
              <a:buFont typeface="Arial"/>
              <a:buAutoNum type="arabicParenR" startAt="5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M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3" descr=""/>
          <p:cNvPicPr/>
          <p:nvPr/>
        </p:nvPicPr>
        <p:blipFill>
          <a:blip r:embed="rId1"/>
          <a:srcRect l="0" t="0" r="66059" b="0"/>
          <a:stretch/>
        </p:blipFill>
        <p:spPr>
          <a:xfrm>
            <a:off x="5086440" y="1219320"/>
            <a:ext cx="2533680" cy="26668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5" descr="Mleader04"/>
          <p:cNvPicPr/>
          <p:nvPr/>
        </p:nvPicPr>
        <p:blipFill>
          <a:blip r:embed="rId2"/>
          <a:stretch/>
        </p:blipFill>
        <p:spPr>
          <a:xfrm>
            <a:off x="4038480" y="4114800"/>
            <a:ext cx="4572000" cy="24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18960" y="136080"/>
            <a:ext cx="8825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sc. Tips in AutoCAD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49388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0000"/>
              </a:lnSpc>
              <a:spcAft>
                <a:spcPts val="125"/>
              </a:spcAft>
              <a:buClr>
                <a:srgbClr val="118888"/>
              </a:buClr>
              <a:buFont typeface="Arial"/>
              <a:buAutoNum type="arabicParenR" startAt="5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se Xcl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Aft>
                <a:spcPts val="125"/>
              </a:spcAft>
              <a:buClr>
                <a:srgbClr val="118888"/>
              </a:buClr>
              <a:buFont typeface="Arial"/>
              <a:buAutoNum type="arabicParenR" startAt="5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 control for attached DWF fi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Aft>
                <a:spcPts val="125"/>
              </a:spcAft>
              <a:buClr>
                <a:srgbClr val="118888"/>
              </a:buClr>
              <a:buFont typeface="Arial"/>
              <a:buAutoNum type="arabicParenR" startAt="5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smaller PDFs with DW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Aft>
                <a:spcPts val="125"/>
              </a:spcAft>
              <a:buClr>
                <a:srgbClr val="118888"/>
              </a:buClr>
              <a:buFont typeface="Arial"/>
              <a:buAutoNum type="arabicParenR" startAt="5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SHCOLLATE – multipage PDF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Aft>
                <a:spcPts val="125"/>
              </a:spcAft>
              <a:buClr>
                <a:srgbClr val="118888"/>
              </a:buClr>
              <a:buFont typeface="Arial"/>
              <a:buAutoNum type="arabicParenR" startAt="5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/Export D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Aft>
                <a:spcPts val="125"/>
              </a:spcAft>
              <a:buClr>
                <a:srgbClr val="118888"/>
              </a:buClr>
              <a:buFont typeface="Arial"/>
              <a:buAutoNum type="arabicParenR" startAt="5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ver for Xref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6" descr="AUGI Logo"/>
          <p:cNvPicPr/>
          <p:nvPr/>
        </p:nvPicPr>
        <p:blipFill>
          <a:blip r:embed="rId1"/>
          <a:srcRect l="0" t="0" r="58713" b="0"/>
          <a:stretch/>
        </p:blipFill>
        <p:spPr>
          <a:xfrm>
            <a:off x="2971800" y="5334120"/>
            <a:ext cx="3129120" cy="11048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XClip"/>
          <p:cNvPicPr/>
          <p:nvPr/>
        </p:nvPicPr>
        <p:blipFill>
          <a:blip r:embed="rId2"/>
          <a:stretch/>
        </p:blipFill>
        <p:spPr>
          <a:xfrm>
            <a:off x="4495680" y="2743200"/>
            <a:ext cx="375300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0080" y="196920"/>
            <a:ext cx="868356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s, Keys, Ke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18680" y="1109160"/>
            <a:ext cx="8301240" cy="471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3"/>
              </a:spcAft>
              <a:buClr>
                <a:srgbClr val="118888"/>
              </a:buClr>
              <a:buFont typeface="Arial"/>
              <a:buAutoNum type="arabicParenR" startAt="6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+R to cycle through all of your viewpo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3"/>
              </a:spcAft>
              <a:buClr>
                <a:srgbClr val="118888"/>
              </a:buClr>
              <a:buFont typeface="Arial"/>
              <a:buAutoNum type="arabicParenR" startAt="6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+A to select all the objects in your draw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3"/>
              </a:spcAft>
              <a:buClr>
                <a:srgbClr val="118888"/>
              </a:buClr>
              <a:buFont typeface="Arial"/>
              <a:buAutoNum type="arabicParenR" startAt="6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to cycle through obje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3"/>
              </a:spcAft>
              <a:buClr>
                <a:srgbClr val="118888"/>
              </a:buClr>
              <a:buFont typeface="Arial"/>
              <a:buAutoNum type="arabicParenR" startAt="6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 to cycle through object sna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3"/>
              </a:spcAft>
              <a:buClr>
                <a:srgbClr val="118888"/>
              </a:buClr>
              <a:buFont typeface="Arial"/>
              <a:buAutoNum type="arabicParenR" startAt="6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igate through layouts with Control+PageUp and Control+PageDow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3"/>
              </a:spcAft>
              <a:buClr>
                <a:srgbClr val="118888"/>
              </a:buClr>
              <a:buFont typeface="Arial"/>
              <a:buAutoNum type="arabicParenR" startAt="6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 down right mouse button to clear grip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3"/>
              </a:spcAft>
              <a:buClr>
                <a:srgbClr val="118888"/>
              </a:buClr>
              <a:buFont typeface="Arial"/>
              <a:buAutoNum type="arabicParenR" startAt="6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for more than one hot gr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3"/>
              </a:spcAft>
              <a:buClr>
                <a:srgbClr val="118888"/>
              </a:buClr>
              <a:buFont typeface="Arial"/>
              <a:buAutoNum type="arabicParenR" startAt="6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ow up and down through command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3"/>
              </a:spcAft>
              <a:buClr>
                <a:srgbClr val="118888"/>
              </a:buClr>
              <a:buFont typeface="Arial"/>
              <a:buAutoNum type="arabicParenR" startAt="6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+Tab to cycle through open drawi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3"/>
              </a:spcAft>
              <a:buClr>
                <a:srgbClr val="118888"/>
              </a:buClr>
              <a:buFont typeface="Arial"/>
              <a:buAutoNum type="arabicParenR" startAt="6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NAP Tracking to find the center of a bo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3"/>
              </a:spcAft>
              <a:buClr>
                <a:srgbClr val="118888"/>
              </a:buClr>
              <a:buFont typeface="Arial"/>
              <a:buAutoNum type="arabicParenR" startAt="6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2P or MTP to find the midpoint between two 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MCj02506440000[1]"/>
          <p:cNvPicPr/>
          <p:nvPr/>
        </p:nvPicPr>
        <p:blipFill>
          <a:blip r:embed="rId1"/>
          <a:stretch/>
        </p:blipFill>
        <p:spPr>
          <a:xfrm>
            <a:off x="6837480" y="1434960"/>
            <a:ext cx="1755720" cy="13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18960" y="136080"/>
            <a:ext cx="8444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p #75:  Embed Drawings into PP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528480" y="4892760"/>
            <a:ext cx="786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ert menu – Object –&gt; Autodesk DWF View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ght click on image – Autodesk DWF Viewer Control -&gt;Properties – Select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WF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WF will only display when the Slide Show is pla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CExpressViewerControl1"/>
          <p:cNvGraphicFramePr/>
          <p:nvPr/>
        </p:nvGraphicFramePr>
        <p:xfrm>
          <a:off x="1384200" y="1371600"/>
          <a:ext cx="4577040" cy="33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CExpressViewerControl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4200" y="1371600"/>
                    <a:ext cx="4577040" cy="3359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p #76  Autodesk Labs: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abs.autodesk.com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(commandcomplete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7682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4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219800" cy="41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318960" y="1415880"/>
            <a:ext cx="8259840" cy="42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95360" indent="0">
              <a:lnSpc>
                <a:spcPct val="80000"/>
              </a:lnSpc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viewing and plotting of DWG files, and publishing to DW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160">
              <a:lnSpc>
                <a:spcPct val="80000"/>
              </a:lnSpc>
              <a:spcAft>
                <a:spcPts val="125"/>
              </a:spcAft>
              <a:buClr>
                <a:srgbClr val="007db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ch converts drawings to previous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160">
              <a:lnSpc>
                <a:spcPct val="80000"/>
              </a:lnSpc>
              <a:spcAft>
                <a:spcPts val="125"/>
              </a:spcAft>
              <a:buClr>
                <a:srgbClr val="007db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 alone product – no need for ACAD to be in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160">
              <a:lnSpc>
                <a:spcPct val="80000"/>
              </a:lnSpc>
              <a:spcAft>
                <a:spcPts val="125"/>
              </a:spcAft>
              <a:buClr>
                <a:srgbClr val="007db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fidelity as Save as in AutoC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160">
              <a:lnSpc>
                <a:spcPct val="80000"/>
              </a:lnSpc>
              <a:spcAft>
                <a:spcPts val="125"/>
              </a:spcAft>
              <a:buClr>
                <a:srgbClr val="007db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sion of pen widths to line weights and the addition of page setu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160">
              <a:lnSpc>
                <a:spcPct val="80000"/>
              </a:lnSpc>
              <a:spcAft>
                <a:spcPts val="125"/>
              </a:spcAft>
              <a:buClr>
                <a:srgbClr val="007db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autodesk.com/tru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318960" y="411120"/>
            <a:ext cx="88250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p #77:  DWG TrueView (now includes True Conver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4" descr="DWGTruVw_sigicon_5_v1"/>
          <p:cNvPicPr/>
          <p:nvPr/>
        </p:nvPicPr>
        <p:blipFill>
          <a:blip r:embed="rId1"/>
          <a:stretch/>
        </p:blipFill>
        <p:spPr>
          <a:xfrm>
            <a:off x="3505320" y="4419720"/>
            <a:ext cx="2187360" cy="2187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desk Design Review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7682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autodesk.com/designre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"/>
          <p:cNvPicPr/>
          <p:nvPr/>
        </p:nvPicPr>
        <p:blipFill>
          <a:blip r:embed="rId1"/>
          <a:stretch/>
        </p:blipFill>
        <p:spPr>
          <a:xfrm>
            <a:off x="1371600" y="2743200"/>
            <a:ext cx="7191360" cy="3360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hell_markup_processed.avi" descr=""/>
          <p:cNvPicPr/>
          <p:nvPr/>
        </p:nvPicPr>
        <p:blipFill>
          <a:blip r:embed="rId1"/>
          <a:stretch/>
        </p:blipFill>
        <p:spPr>
          <a:xfrm>
            <a:off x="1187280" y="1544760"/>
            <a:ext cx="6477120" cy="48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1465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p # 78: Autodesk Design Review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18600" y="1415520"/>
            <a:ext cx="7682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autodesk.com/designre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4" descr=""/>
          <p:cNvPicPr/>
          <p:nvPr/>
        </p:nvPicPr>
        <p:blipFill>
          <a:blip r:embed="rId1"/>
          <a:stretch/>
        </p:blipFill>
        <p:spPr>
          <a:xfrm>
            <a:off x="1371600" y="2743200"/>
            <a:ext cx="7191360" cy="3360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p # 79:  Autodesk Design Review – </a:t>
            </a:r>
            <a:br>
              <a:rPr sz="3600"/>
            </a:br>
            <a:r>
              <a:rPr b="0" lang="en-US" sz="3200" spc="-1" strike="noStrike">
                <a:solidFill>
                  <a:srgbClr val="00aadd"/>
                </a:solidFill>
                <a:latin typeface="Arial"/>
              </a:rPr>
              <a:t>Drawing Version Compare Fe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3" descr="27_compare_2D"/>
          <p:cNvPicPr/>
          <p:nvPr/>
        </p:nvPicPr>
        <p:blipFill>
          <a:blip r:embed="rId1"/>
          <a:stretch/>
        </p:blipFill>
        <p:spPr>
          <a:xfrm>
            <a:off x="2935440" y="1752480"/>
            <a:ext cx="5675040" cy="440064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4"/>
          <p:cNvSpPr/>
          <p:nvPr/>
        </p:nvSpPr>
        <p:spPr>
          <a:xfrm>
            <a:off x="3117960" y="6351480"/>
            <a:ext cx="50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add"/>
                </a:solidFill>
                <a:latin typeface="Arial"/>
              </a:rPr>
              <a:t>Free Download: </a:t>
            </a:r>
            <a:r>
              <a:rPr b="1" lang="en-US" sz="1800" spc="-1" strike="noStrike">
                <a:solidFill>
                  <a:srgbClr val="77bb11"/>
                </a:solidFill>
                <a:latin typeface="Arial"/>
              </a:rPr>
              <a:t>autodesk.com/designreview</a:t>
            </a:r>
            <a:r>
              <a:rPr b="1" lang="en-US" sz="1800" spc="-1" strike="noStrike">
                <a:solidFill>
                  <a:srgbClr val="00aad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318960" y="1752480"/>
            <a:ext cx="261648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749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ight additions/ del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239400">
              <a:lnSpc>
                <a:spcPct val="100000"/>
              </a:lnSpc>
              <a:spcAft>
                <a:spcPts val="374"/>
              </a:spcAft>
              <a:buClr>
                <a:srgbClr val="00aad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ools &gt; Comp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239400">
              <a:lnSpc>
                <a:spcPct val="100000"/>
              </a:lnSpc>
              <a:spcAft>
                <a:spcPts val="374"/>
              </a:spcAft>
              <a:buClr>
                <a:srgbClr val="00aad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 and load the DWF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239400">
              <a:lnSpc>
                <a:spcPct val="100000"/>
              </a:lnSpc>
              <a:spcAft>
                <a:spcPts val="374"/>
              </a:spcAft>
              <a:buClr>
                <a:srgbClr val="00aad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sheets to overlay and click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18600" y="1415520"/>
            <a:ext cx="7682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800280" indent="-228600"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you some tips and techniques that will increase your productivity and help you work smart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Efficiency.jpg"/>
          <p:cNvPicPr/>
          <p:nvPr/>
        </p:nvPicPr>
        <p:blipFill>
          <a:blip r:embed="rId1"/>
          <a:stretch/>
        </p:blipFill>
        <p:spPr>
          <a:xfrm>
            <a:off x="1447920" y="2901960"/>
            <a:ext cx="5943600" cy="395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p # 80: Introducing Autodesk Freewh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18960" y="1415880"/>
            <a:ext cx="2881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re designs online - Fr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239400">
              <a:spcAft>
                <a:spcPts val="125"/>
              </a:spcAft>
              <a:buClr>
                <a:srgbClr val="007db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sh DW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239400">
              <a:spcAft>
                <a:spcPts val="125"/>
              </a:spcAft>
              <a:buClr>
                <a:srgbClr val="007db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load &amp; Email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239400">
              <a:spcAft>
                <a:spcPts val="125"/>
              </a:spcAft>
              <a:buClr>
                <a:srgbClr val="007db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&amp; Print 2D &amp; 3D designs online without install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239400">
              <a:spcAft>
                <a:spcPts val="125"/>
              </a:spcAft>
              <a:buClr>
                <a:srgbClr val="007db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e for drawing catalogs and arch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0"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wheel.autodesk.com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4"/>
          <p:cNvSpPr/>
          <p:nvPr/>
        </p:nvSpPr>
        <p:spPr>
          <a:xfrm>
            <a:off x="1787400" y="136440"/>
            <a:ext cx="6591600" cy="64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5" descr="New UI Screenshot"/>
          <p:cNvPicPr/>
          <p:nvPr/>
        </p:nvPicPr>
        <p:blipFill>
          <a:blip r:embed="rId1"/>
          <a:stretch/>
        </p:blipFill>
        <p:spPr>
          <a:xfrm>
            <a:off x="3429000" y="1523880"/>
            <a:ext cx="4950000" cy="483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3" descr="logo7"/>
          <p:cNvPicPr/>
          <p:nvPr/>
        </p:nvPicPr>
        <p:blipFill>
          <a:blip r:embed="rId1"/>
          <a:stretch/>
        </p:blipFill>
        <p:spPr>
          <a:xfrm>
            <a:off x="1219320" y="3200400"/>
            <a:ext cx="6859440" cy="16002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4"/>
          <p:cNvSpPr/>
          <p:nvPr/>
        </p:nvSpPr>
        <p:spPr>
          <a:xfrm>
            <a:off x="1523880" y="5486400"/>
            <a:ext cx="716292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ynn.allen@autodesk.co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autodesk.com/lynnalle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2"/>
          <a:stretch/>
        </p:blipFill>
        <p:spPr>
          <a:xfrm>
            <a:off x="3505320" y="304920"/>
            <a:ext cx="183024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r Interface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18600" y="1752120"/>
            <a:ext cx="821556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lvl="1" marL="554400" indent="-443160">
              <a:spcAft>
                <a:spcPts val="139"/>
              </a:spcAft>
              <a:buClr>
                <a:srgbClr val="007dba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sp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443160">
              <a:spcAft>
                <a:spcPts val="139"/>
              </a:spcAft>
              <a:buClr>
                <a:srgbClr val="007dba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oComplete (Tab to cyc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443160">
              <a:spcAft>
                <a:spcPts val="139"/>
              </a:spcAft>
              <a:buClr>
                <a:srgbClr val="007dba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ve Model space/Layout tab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443160">
              <a:spcAft>
                <a:spcPts val="139"/>
              </a:spcAft>
              <a:buClr>
                <a:srgbClr val="007dba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sy Copy of Layout Tabs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ew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443160">
              <a:spcAft>
                <a:spcPts val="139"/>
              </a:spcAft>
              <a:buClr>
                <a:srgbClr val="007dba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ag and Drop to Sheet Set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ew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443160">
              <a:spcAft>
                <a:spcPts val="139"/>
              </a:spcAft>
              <a:buClr>
                <a:srgbClr val="007dba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2D Dashboard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ew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443160">
              <a:spcAft>
                <a:spcPts val="139"/>
              </a:spcAft>
              <a:buClr>
                <a:srgbClr val="007dba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us Bar and Tray custom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443160">
              <a:spcAft>
                <a:spcPts val="139"/>
              </a:spcAft>
              <a:buClr>
                <a:srgbClr val="007dba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chored Palet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443160">
              <a:spcAft>
                <a:spcPts val="139"/>
              </a:spcAft>
              <a:buClr>
                <a:srgbClr val="007dba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ean Screen  (or Ctrl 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443160">
              <a:spcAft>
                <a:spcPts val="139"/>
              </a:spcAft>
              <a:buClr>
                <a:srgbClr val="007dba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skbar to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443160">
              <a:spcAft>
                <a:spcPts val="139"/>
              </a:spcAft>
              <a:buClr>
                <a:srgbClr val="007dba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k Toolba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443160">
              <a:spcAft>
                <a:spcPts val="139"/>
              </a:spcAft>
              <a:buClr>
                <a:srgbClr val="007dba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uble click toolbars to flo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443160">
              <a:spcAft>
                <a:spcPts val="139"/>
              </a:spcAft>
              <a:buClr>
                <a:srgbClr val="007dba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k/Unlock Viewport on Status Bar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ew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443160">
              <a:spcAft>
                <a:spcPts val="139"/>
              </a:spcAft>
              <a:buClr>
                <a:srgbClr val="007dba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P Scale on Status Bar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ew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0"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0"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0"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1"/>
          <a:stretch/>
        </p:blipFill>
        <p:spPr>
          <a:xfrm>
            <a:off x="4800600" y="2362320"/>
            <a:ext cx="1033560" cy="3394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"/>
          <p:cNvPicPr/>
          <p:nvPr/>
        </p:nvPicPr>
        <p:blipFill>
          <a:blip r:embed="rId2"/>
          <a:stretch/>
        </p:blipFill>
        <p:spPr>
          <a:xfrm>
            <a:off x="6356520" y="1371600"/>
            <a:ext cx="179676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ck Customizing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18600" y="1415520"/>
            <a:ext cx="7682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Aft>
                <a:spcPts val="125"/>
              </a:spcAft>
              <a:buClr>
                <a:srgbClr val="118888"/>
              </a:buClr>
              <a:buFont typeface="Arial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I now customizes the Dashboar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ew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25"/>
              </a:spcAft>
              <a:buClr>
                <a:srgbClr val="118888"/>
              </a:buClr>
              <a:buFont typeface="Arial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and drop toolbars to the Dashboard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ew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25"/>
              </a:spcAft>
              <a:buClr>
                <a:srgbClr val="118888"/>
              </a:buClr>
              <a:buFont typeface="Arial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ier to Search and Create New Commands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ew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25"/>
              </a:spcAft>
              <a:buClr>
                <a:srgbClr val="118888"/>
              </a:buClr>
              <a:buFont typeface="Arial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rid of F1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25"/>
              </a:spcAft>
              <a:buClr>
                <a:srgbClr val="118888"/>
              </a:buClr>
              <a:buFont typeface="Arial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ckly create a Tool Palette of your blocks in Design Cen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25"/>
              </a:spcAft>
              <a:buClr>
                <a:srgbClr val="118888"/>
              </a:buClr>
              <a:buFont typeface="Arial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ize the File dialo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2438280" y="3397320"/>
            <a:ext cx="3505320" cy="34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yer Tip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6858000" cy="54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71680" indent="-457200">
              <a:spcAft>
                <a:spcPts val="125"/>
              </a:spcAft>
              <a:buClr>
                <a:srgbClr val="007dba"/>
              </a:buClr>
              <a:buSzPct val="80000"/>
              <a:buFont typeface="Arial"/>
              <a:buAutoNum type="arabicParenR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 properties per viewpor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ew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457200">
              <a:spcAft>
                <a:spcPts val="125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of visual proper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457200">
              <a:spcAft>
                <a:spcPts val="125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reset to global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Aft>
                <a:spcPts val="125"/>
              </a:spcAft>
              <a:buClr>
                <a:srgbClr val="007dba"/>
              </a:buClr>
              <a:buSzPct val="80000"/>
              <a:buFont typeface="Arial"/>
              <a:buAutoNum type="arabicParenR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ize your Layer Columns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ew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Aft>
                <a:spcPts val="125"/>
              </a:spcAft>
              <a:buClr>
                <a:srgbClr val="007dba"/>
              </a:buClr>
              <a:buSzPct val="80000"/>
              <a:buFont typeface="Arial"/>
              <a:buAutoNum type="arabicParenR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ctivate the Status Column to sav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Aft>
                <a:spcPts val="125"/>
              </a:spcAft>
              <a:buClr>
                <a:srgbClr val="007dba"/>
              </a:buClr>
              <a:buSzPct val="80000"/>
              <a:buFont typeface="Arial"/>
              <a:buAutoNum type="arabicParenR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y Layer State Manager Access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ew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Aft>
                <a:spcPts val="125"/>
              </a:spcAft>
              <a:buClr>
                <a:srgbClr val="007dba"/>
              </a:buClr>
              <a:buSzPct val="80000"/>
              <a:buFont typeface="Arial"/>
              <a:buAutoNum type="arabicParenR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ing Layer States per Viewport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ew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0">
              <a:spcAft>
                <a:spcPts val="113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0">
              <a:spcAft>
                <a:spcPts val="113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7" descr="Layer Properties Manager3"/>
          <p:cNvPicPr/>
          <p:nvPr/>
        </p:nvPicPr>
        <p:blipFill>
          <a:blip r:embed="rId1"/>
          <a:stretch/>
        </p:blipFill>
        <p:spPr>
          <a:xfrm>
            <a:off x="1905120" y="4670280"/>
            <a:ext cx="4324320" cy="21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0080" y="196920"/>
            <a:ext cx="868356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sc. Layer Tip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69724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5760" indent="-455760">
              <a:lnSpc>
                <a:spcPct val="90000"/>
              </a:lnSpc>
              <a:spcAft>
                <a:spcPts val="125"/>
              </a:spcAft>
              <a:buClr>
                <a:srgbClr val="118888"/>
              </a:buClr>
              <a:buSzPct val="80000"/>
              <a:buFont typeface="Arial"/>
              <a:buAutoNum type="arabicParenR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BYLAYER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ew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Aft>
                <a:spcPts val="125"/>
              </a:spcAft>
              <a:buClr>
                <a:srgbClr val="118888"/>
              </a:buClr>
              <a:buSzPct val="80000"/>
              <a:buFont typeface="Arial"/>
              <a:buAutoNum type="arabicParenR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 Isolate now fades layers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ew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Aft>
                <a:spcPts val="125"/>
              </a:spcAft>
              <a:buClr>
                <a:srgbClr val="118888"/>
              </a:buClr>
              <a:buSzPct val="80000"/>
              <a:buFont typeface="Arial"/>
              <a:buAutoNum type="arabicParenR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UNISO is back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ew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Aft>
                <a:spcPts val="125"/>
              </a:spcAft>
              <a:buClr>
                <a:srgbClr val="118888"/>
              </a:buClr>
              <a:buSzPct val="80000"/>
              <a:buFont typeface="Arial"/>
              <a:buAutoNum type="arabicParenR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 Translater (LAYTRAN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Aft>
                <a:spcPts val="125"/>
              </a:spcAft>
              <a:buClr>
                <a:srgbClr val="007db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s layers to a standard (dws, dwg or dw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Aft>
                <a:spcPts val="125"/>
              </a:spcAft>
              <a:buClr>
                <a:srgbClr val="007db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 objects to by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Aft>
                <a:spcPts val="125"/>
              </a:spcAft>
              <a:buClr>
                <a:srgbClr val="118888"/>
              </a:buClr>
              <a:buFont typeface="Arial"/>
              <a:buAutoNum type="arabicParenR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WALK (View layers individuall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Aft>
                <a:spcPts val="125"/>
              </a:spcAft>
              <a:buClr>
                <a:srgbClr val="118888"/>
              </a:buClr>
              <a:buFont typeface="Arial"/>
              <a:buAutoNum type="arabicParenR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DEL  (Delete even the most stubborn layers!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0" descr=""/>
          <p:cNvPicPr/>
          <p:nvPr/>
        </p:nvPicPr>
        <p:blipFill>
          <a:blip r:embed="rId1"/>
          <a:stretch/>
        </p:blipFill>
        <p:spPr>
          <a:xfrm>
            <a:off x="5105520" y="533520"/>
            <a:ext cx="3448080" cy="990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"/>
          <p:cNvPicPr/>
          <p:nvPr/>
        </p:nvPicPr>
        <p:blipFill>
          <a:blip r:embed="rId2"/>
          <a:stretch/>
        </p:blipFill>
        <p:spPr>
          <a:xfrm>
            <a:off x="2379600" y="4032360"/>
            <a:ext cx="447840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6"/>
          <p:cNvSpPr/>
          <p:nvPr/>
        </p:nvSpPr>
        <p:spPr>
          <a:xfrm>
            <a:off x="318960" y="6535800"/>
            <a:ext cx="41133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AutoCAD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309600" y="1359000"/>
            <a:ext cx="555768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71680" indent="-457200">
              <a:lnSpc>
                <a:spcPct val="105000"/>
              </a:lnSpc>
              <a:spcAft>
                <a:spcPts val="125"/>
              </a:spcAft>
              <a:buClr>
                <a:srgbClr val="118888"/>
              </a:buClr>
              <a:buSzPct val="80000"/>
              <a:buFont typeface="Arial"/>
              <a:buAutoNum type="arabicParenR" startAt="3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LISTEDIT – Plot, Page Setup, Vport toolbar, Propertie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5000"/>
              </a:lnSpc>
              <a:spcAft>
                <a:spcPts val="125"/>
              </a:spcAft>
              <a:buClr>
                <a:srgbClr val="118888"/>
              </a:buClr>
              <a:buSzPct val="80000"/>
              <a:buFont typeface="Arial"/>
              <a:buAutoNum type="arabicParenR" startAt="3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 Command (G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105000"/>
              </a:lnSpc>
              <a:spcAft>
                <a:spcPts val="125"/>
              </a:spcAft>
              <a:buClr>
                <a:srgbClr val="118888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 on plines, lines, arc, elliptical arcs and sp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105000"/>
              </a:lnSpc>
              <a:spcAft>
                <a:spcPts val="125"/>
              </a:spcAft>
              <a:buClr>
                <a:srgbClr val="118888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o turn an arc into a cir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Aft>
                <a:spcPts val="125"/>
              </a:spcAft>
              <a:buClr>
                <a:srgbClr val="118888"/>
              </a:buClr>
              <a:buSzPct val="80000"/>
              <a:buFont typeface="Arial"/>
              <a:buAutoNum type="arabicParenR" startAt="3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FILTERALERT (Set to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Aft>
                <a:spcPts val="125"/>
              </a:spcAft>
              <a:buClr>
                <a:srgbClr val="118888"/>
              </a:buClr>
              <a:buSzPct val="80000"/>
              <a:buFont typeface="Arial"/>
              <a:buAutoNum type="arabicParenR" startAt="3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TERS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Aft>
                <a:spcPts val="125"/>
              </a:spcAft>
              <a:buClr>
                <a:srgbClr val="118888"/>
              </a:buClr>
              <a:buSzPct val="80000"/>
              <a:buFont typeface="Arial"/>
              <a:buAutoNum type="arabicParenR" startAt="3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DITAC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Aft>
                <a:spcPts val="125"/>
              </a:spcAft>
              <a:buClr>
                <a:srgbClr val="118888"/>
              </a:buClr>
              <a:buSzPct val="80000"/>
              <a:buFont typeface="Arial"/>
              <a:buAutoNum type="arabicParenR" startAt="3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E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Aft>
                <a:spcPts val="125"/>
              </a:spcAft>
              <a:buClr>
                <a:srgbClr val="118888"/>
              </a:buClr>
              <a:buSzPct val="80000"/>
              <a:buFont typeface="Arial"/>
              <a:buAutoNum type="arabicParenR" startAt="3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PGOUT, BMPOUT, PNGOUT, TIF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Aft>
                <a:spcPts val="125"/>
              </a:spcAft>
              <a:buClr>
                <a:srgbClr val="118888"/>
              </a:buClr>
              <a:buSzPct val="80000"/>
              <a:buFont typeface="Arial"/>
              <a:buAutoNum type="arabicParenR" startAt="3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K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105000"/>
              </a:lnSpc>
              <a:spcAft>
                <a:spcPts val="113"/>
              </a:spcAft>
              <a:buClr>
                <a:srgbClr val="dd00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5000"/>
              </a:lnSpc>
              <a:spcAft>
                <a:spcPts val="113"/>
              </a:spcAft>
              <a:buClr>
                <a:srgbClr val="5bfa0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5000"/>
              </a:lnSpc>
              <a:spcAft>
                <a:spcPts val="125"/>
              </a:spcAft>
              <a:buClr>
                <a:srgbClr val="5bfa0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5000"/>
              </a:lnSpc>
              <a:spcAft>
                <a:spcPts val="125"/>
              </a:spcAft>
              <a:buClr>
                <a:srgbClr val="5bfa0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5000"/>
              </a:lnSpc>
              <a:spcAft>
                <a:spcPts val="125"/>
              </a:spcAft>
              <a:buClr>
                <a:srgbClr val="5bfa0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meSaver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j0234131"/>
          <p:cNvPicPr/>
          <p:nvPr/>
        </p:nvPicPr>
        <p:blipFill>
          <a:blip r:embed="rId1"/>
          <a:stretch/>
        </p:blipFill>
        <p:spPr>
          <a:xfrm>
            <a:off x="6780240" y="195120"/>
            <a:ext cx="1549440" cy="16480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Edit Scale List"/>
          <p:cNvPicPr/>
          <p:nvPr/>
        </p:nvPicPr>
        <p:blipFill>
          <a:blip r:embed="rId2"/>
          <a:stretch/>
        </p:blipFill>
        <p:spPr>
          <a:xfrm>
            <a:off x="6135840" y="2330280"/>
            <a:ext cx="2249280" cy="24163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"/>
          <p:cNvPicPr/>
          <p:nvPr/>
        </p:nvPicPr>
        <p:blipFill>
          <a:blip r:embed="rId3"/>
          <a:stretch/>
        </p:blipFill>
        <p:spPr>
          <a:xfrm>
            <a:off x="2514600" y="4950000"/>
            <a:ext cx="2973240" cy="190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xt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18960" y="1415880"/>
            <a:ext cx="4253040" cy="483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lvl="1" marL="548640" indent="0">
              <a:lnSpc>
                <a:spcPct val="90000"/>
              </a:lnSpc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438840">
              <a:lnSpc>
                <a:spcPct val="90000"/>
              </a:lnSpc>
              <a:spcAft>
                <a:spcPts val="125"/>
              </a:spcAft>
              <a:buClr>
                <a:srgbClr val="118888"/>
              </a:buClr>
              <a:buSzPct val="80000"/>
              <a:buFont typeface="Arial"/>
              <a:buAutoNum type="arabicParenR" startAt="4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 Docs maintain spacing, font, etc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ew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438840">
              <a:lnSpc>
                <a:spcPct val="90000"/>
              </a:lnSpc>
              <a:spcAft>
                <a:spcPts val="125"/>
              </a:spcAft>
              <a:buClr>
                <a:srgbClr val="118888"/>
              </a:buClr>
              <a:buSzPct val="80000"/>
              <a:buFont typeface="Arial"/>
              <a:buAutoNum type="arabicParenR" startAt="4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 wraps automatically over multiple column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ew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438840">
              <a:lnSpc>
                <a:spcPct val="90000"/>
              </a:lnSpc>
              <a:spcAft>
                <a:spcPts val="125"/>
              </a:spcAft>
              <a:buClr>
                <a:srgbClr val="118888"/>
              </a:buClr>
              <a:buSzPct val="80000"/>
              <a:buFont typeface="Arial"/>
              <a:buAutoNum type="arabicParenR" startAt="4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 styles and paragraph line spacing control for selected lines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ew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438840">
              <a:lnSpc>
                <a:spcPct val="90000"/>
              </a:lnSpc>
              <a:spcAft>
                <a:spcPts val="125"/>
              </a:spcAft>
              <a:buClr>
                <a:srgbClr val="118888"/>
              </a:buClr>
              <a:buSzPct val="80000"/>
              <a:buFont typeface="Arial"/>
              <a:buAutoNum type="arabicParenR" startAt="4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pell Checker Improv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438840">
              <a:lnSpc>
                <a:spcPct val="90000"/>
              </a:lnSpc>
              <a:spcAft>
                <a:spcPts val="125"/>
              </a:spcAft>
              <a:buClr>
                <a:srgbClr val="118888"/>
              </a:buClr>
              <a:buSzPct val="80000"/>
              <a:buFont typeface="Arial"/>
              <a:buAutoNum type="arabicParenR" startAt="4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line Attributes!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438840">
              <a:lnSpc>
                <a:spcPct val="90000"/>
              </a:lnSpc>
              <a:spcAft>
                <a:spcPts val="125"/>
              </a:spcAft>
              <a:buClr>
                <a:srgbClr val="118888"/>
              </a:buClr>
              <a:buSzPct val="80000"/>
              <a:buFont typeface="Arial"/>
              <a:buAutoNum type="arabicParenR" startAt="4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the Text Sample 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438840">
              <a:lnSpc>
                <a:spcPct val="90000"/>
              </a:lnSpc>
              <a:spcAft>
                <a:spcPts val="99"/>
              </a:spcAft>
              <a:buClr>
                <a:srgbClr val="118888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TJIG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438840">
              <a:lnSpc>
                <a:spcPct val="90000"/>
              </a:lnSpc>
              <a:spcAft>
                <a:spcPts val="125"/>
              </a:spcAft>
              <a:buClr>
                <a:srgbClr val="118888"/>
              </a:buClr>
              <a:buSzPct val="80000"/>
              <a:buFont typeface="Arial"/>
              <a:buAutoNum type="arabicParenR" startAt="4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utside of the dialog box to exit command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438840">
              <a:lnSpc>
                <a:spcPct val="90000"/>
              </a:lnSpc>
              <a:spcAft>
                <a:spcPts val="125"/>
              </a:spcAft>
              <a:buClr>
                <a:srgbClr val="118888"/>
              </a:buClr>
              <a:buSzPct val="80000"/>
              <a:buFont typeface="Arial"/>
              <a:buAutoNum type="arabicParenR" startAt="4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+Enter to exit command M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438840">
              <a:lnSpc>
                <a:spcPct val="90000"/>
              </a:lnSpc>
              <a:spcAft>
                <a:spcPts val="125"/>
              </a:spcAft>
              <a:buClr>
                <a:srgbClr val="118888"/>
              </a:buClr>
              <a:buSzPct val="80000"/>
              <a:buFont typeface="Arial"/>
              <a:buAutoNum type="arabicParenR" startAt="4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TOFRONT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10"/>
          <p:cNvGrpSpPr/>
          <p:nvPr/>
        </p:nvGrpSpPr>
        <p:grpSpPr>
          <a:xfrm>
            <a:off x="4572000" y="1938240"/>
            <a:ext cx="4266720" cy="3297600"/>
            <a:chOff x="4572000" y="1938240"/>
            <a:chExt cx="4266720" cy="3297600"/>
          </a:xfrm>
        </p:grpSpPr>
        <p:pic>
          <p:nvPicPr>
            <p:cNvPr id="287" name="Picture 6" descr="Mtext notes page"/>
            <p:cNvPicPr/>
            <p:nvPr/>
          </p:nvPicPr>
          <p:blipFill>
            <a:blip r:embed="rId1"/>
            <a:stretch/>
          </p:blipFill>
          <p:spPr>
            <a:xfrm>
              <a:off x="4572000" y="2133720"/>
              <a:ext cx="4266720" cy="28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Rectangle 7"/>
            <p:cNvSpPr/>
            <p:nvPr/>
          </p:nvSpPr>
          <p:spPr>
            <a:xfrm>
              <a:off x="6802200" y="2230200"/>
              <a:ext cx="581760" cy="1745280"/>
            </a:xfrm>
            <a:prstGeom prst="rect">
              <a:avLst/>
            </a:prstGeom>
            <a:solidFill>
              <a:srgbClr val="008cb4">
                <a:alpha val="10000"/>
              </a:srgbClr>
            </a:solidFill>
            <a:ln w="3240">
              <a:solidFill>
                <a:srgbClr val="008cb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9" name="AutoShape 8"/>
            <p:cNvCxnSpPr>
              <a:stCxn id="288" idx="0"/>
              <a:endCxn id="290" idx="2"/>
            </p:cNvCxnSpPr>
            <p:nvPr/>
          </p:nvCxnSpPr>
          <p:spPr>
            <a:xfrm rot="5400000">
              <a:off x="5395320" y="3247920"/>
              <a:ext cx="2716200" cy="678960"/>
            </a:xfrm>
            <a:prstGeom prst="bentConnector5">
              <a:avLst>
                <a:gd name="adj1" fmla="val -10710"/>
                <a:gd name="adj2" fmla="val 49973"/>
                <a:gd name="adj3" fmla="val 110710"/>
              </a:avLst>
            </a:prstGeom>
            <a:ln w="28440">
              <a:solidFill>
                <a:srgbClr val="ff3300"/>
              </a:solidFill>
              <a:miter/>
              <a:headEnd len="lg" type="stealth" w="med"/>
              <a:tailEnd len="lg" type="stealth" w="med"/>
            </a:ln>
          </p:spPr>
        </p:cxnSp>
        <p:sp>
          <p:nvSpPr>
            <p:cNvPr id="290" name="Rectangle 9"/>
            <p:cNvSpPr/>
            <p:nvPr/>
          </p:nvSpPr>
          <p:spPr>
            <a:xfrm>
              <a:off x="6123600" y="3975840"/>
              <a:ext cx="581760" cy="969840"/>
            </a:xfrm>
            <a:prstGeom prst="rect">
              <a:avLst/>
            </a:prstGeom>
            <a:solidFill>
              <a:srgbClr val="008cb4">
                <a:alpha val="10000"/>
              </a:srgbClr>
            </a:solidFill>
            <a:ln w="3240">
              <a:solidFill>
                <a:srgbClr val="008cb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768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ble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18600" y="1415520"/>
            <a:ext cx="669132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71680" indent="-457200">
              <a:lnSpc>
                <a:spcPct val="90000"/>
              </a:lnSpc>
              <a:spcAft>
                <a:spcPts val="139"/>
              </a:spcAft>
              <a:buClr>
                <a:srgbClr val="007dba"/>
              </a:buClr>
              <a:buSzPct val="80000"/>
              <a:buFont typeface="Arial"/>
              <a:buAutoNum type="arabicParenR" startAt="4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oFill available in AutoCAD T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lnSpc>
                <a:spcPct val="90000"/>
              </a:lnSpc>
              <a:spcAft>
                <a:spcPts val="139"/>
              </a:spcAft>
              <a:buClr>
                <a:srgbClr val="007dba"/>
              </a:buClr>
              <a:buSzPct val="80000"/>
              <a:buFont typeface="Arial"/>
              <a:buAutoNum type="arabicParenR" startAt="4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bles wrap automatically over multiple colum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lnSpc>
                <a:spcPct val="90000"/>
              </a:lnSpc>
              <a:spcAft>
                <a:spcPts val="139"/>
              </a:spcAft>
              <a:buClr>
                <a:srgbClr val="007dba"/>
              </a:buClr>
              <a:buSzPct val="80000"/>
              <a:buFont typeface="Arial"/>
              <a:buAutoNum type="arabicParenR" startAt="4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ert blocks and text in same c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lnSpc>
                <a:spcPct val="9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1600200" y="3657600"/>
            <a:ext cx="5286240" cy="2851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6:47:59Z</dcterms:created>
  <dc:creator>Lynn Allen</dc:creator>
  <dc:description/>
  <dc:language>en-US</dc:language>
  <cp:lastModifiedBy>Lynn Allen</cp:lastModifiedBy>
  <dcterms:modified xsi:type="dcterms:W3CDTF">2008-01-19T19:15:38Z</dcterms:modified>
  <cp:revision>20</cp:revision>
  <dc:subject/>
  <dc:title>60  AutoCAD Tips in 60 Minutes</dc:title>
</cp:coreProperties>
</file>